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6FCD-A5DD-4F77-834C-3022D32C1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9BBA-0988-4C02-A20D-981214102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2A33-D74B-4C17-A9E8-199D83ECF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E07E-C895-493B-93FD-D990C2564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A3666-A933-4585-A590-63315DA87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5E681-D14B-4767-B81F-184933C1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530F5-D378-4103-BA8F-5733C5D07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784EA-BABE-40BE-8939-0E3C04EF2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E8D56-BB5F-4FF1-BA31-B485BB6DD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B9D92-BEA4-4475-912C-1CB477D11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0A0F0-BE62-462C-B851-4D6E77B8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A981-0A08-40BF-94F8-C2D584F64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D4A4C-8428-4373-94B1-4FA04638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7A400-8E2F-4C60-8690-E308C802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552B8-4D4E-43D6-9A2A-469918E91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334CD-7D8D-490C-B8F8-DF7B6EDCE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12C42-A277-4EFA-9C3A-427616C59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370C-AAFE-4339-BCB7-69485499A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E7BE-258E-4B1D-A1F6-6C614CD28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DDE7-2727-4DB7-942F-E7FCBBD31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2A3E-A26E-4683-8BA3-46F994484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F521-6C4F-4FAC-B22D-EC1774F0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E559-C887-41C7-AB4A-AECC2CBA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5302-F44B-40C7-B839-A939B8C2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4B304-BF3F-478B-A083-730F5A420505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E16F9-D30E-4755-B2D2-37ED6EF7DC3A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hyperlink" Target="http://www.altera.com/" TargetMode="External"/><Relationship Id="rId7" Type="http://schemas.openxmlformats.org/officeDocument/2006/relationships/image" Target="../media/image5.png"/><Relationship Id="rId8" Type="http://schemas.openxmlformats.org/officeDocument/2006/relationships/hyperlink" Target="http://www.xilinx.com/" TargetMode="External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04640"/>
            <a:ext cx="7772400" cy="20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Projeto e implementação de circuitos digitais com FPG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ourier New"/>
              </a:rPr>
              <a:t>Luciano Manhães de A. Filho / Herman Lima J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ourier New"/>
              </a:rPr>
              <a:t>CBPF, Novembro de 200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60160" y="384120"/>
            <a:ext cx="649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ourier New"/>
              </a:rPr>
              <a:t>Centro Brasileiro de Pesquisas Físicas - CBPF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ourier New"/>
              </a:rPr>
              <a:t>Mestrado em Instrumenta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7542360" y="404640"/>
            <a:ext cx="113328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90360"/>
            <a:ext cx="8229600" cy="18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ª PARTE</a:t>
            </a: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Herman Lima Jr 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0C9A-9EBD-4B5F-91EA-3DDF6E04FB7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 flipV="1">
            <a:off x="2382840" y="3213000"/>
            <a:ext cx="762120" cy="1440000"/>
          </a:xfrm>
          <a:custGeom>
            <a:avLst/>
            <a:gdLst>
              <a:gd name="textAreaLeft" fmla="*/ 101880 w 762120"/>
              <a:gd name="textAreaRight" fmla="*/ 660240 w 762120"/>
              <a:gd name="textAreaTop" fmla="*/ 277200 h 1440000"/>
              <a:gd name="textAreaBottom" fmla="*/ 101880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22" stAng="-5400000" swAng="-5400000"/>
                <a:lnTo>
                  <a:pt x="0" y="11118"/>
                </a:lnTo>
                <a:arcTo wR="21600" hR="8322" stAng="10800000" swAng="-2847521"/>
                <a:lnTo>
                  <a:pt x="14400" y="21124"/>
                </a:lnTo>
                <a:lnTo>
                  <a:pt x="21600" y="18042"/>
                </a:lnTo>
                <a:lnTo>
                  <a:pt x="14400" y="14008"/>
                </a:lnTo>
                <a:lnTo>
                  <a:pt x="14400" y="16168"/>
                </a:lnTo>
                <a:arcTo wR="21600" hR="8322" stAng="7952479" swAng="2622139"/>
                <a:lnTo>
                  <a:pt x="307" y="9720"/>
                </a:lnTo>
                <a:arcTo wR="21600" hR="8322" stAng="-10574617" swAng="5174617"/>
                <a:close/>
              </a:path>
              <a:path fill="darkenLess" w="21600" h="21600">
                <a:moveTo>
                  <a:pt x="21600" y="0"/>
                </a:moveTo>
                <a:arcTo wR="21600" hR="8322" stAng="-5400000" swAng="-5400000"/>
                <a:lnTo>
                  <a:pt x="0" y="8322"/>
                </a:lnTo>
                <a:arcTo wR="21600" hR="8322" stAng="10800000" swAng="-225383"/>
                <a:lnTo>
                  <a:pt x="307" y="9720"/>
                </a:lnTo>
                <a:arcTo wR="21600" hR="8322" stAng="-10574617" swAng="5174617"/>
                <a:close/>
              </a:path>
            </a:pathLst>
          </a:custGeom>
          <a:solidFill>
            <a:srgbClr val="66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543720" y="4405320"/>
            <a:ext cx="2286000" cy="3682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Simulação do circui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62240" y="2284560"/>
            <a:ext cx="2819520" cy="3682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Especificações do proje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67080" y="2689200"/>
            <a:ext cx="609840" cy="32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62240" y="3005280"/>
            <a:ext cx="2819520" cy="9169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Definição da família e da FPGA que atende as especificaçõ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62240" y="4300560"/>
            <a:ext cx="2819520" cy="6426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Projeto do circuito       (HDLs / Esquemático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67080" y="3956040"/>
            <a:ext cx="609840" cy="330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67080" y="4979880"/>
            <a:ext cx="609840" cy="330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2400480" y="4330080"/>
            <a:ext cx="761760" cy="1258920"/>
          </a:xfrm>
          <a:custGeom>
            <a:avLst/>
            <a:gdLst>
              <a:gd name="textAreaLeft" fmla="*/ 101880 w 761760"/>
              <a:gd name="textAreaRight" fmla="*/ 659880 w 761760"/>
              <a:gd name="textAreaTop" fmla="*/ 242280 h 1258920"/>
              <a:gd name="textAreaBottom" fmla="*/ 890640 h 125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22" stAng="-5400000" swAng="-5400000"/>
                <a:lnTo>
                  <a:pt x="0" y="11118"/>
                </a:lnTo>
                <a:arcTo wR="21600" hR="8322" stAng="10800000" swAng="-2847521"/>
                <a:lnTo>
                  <a:pt x="14400" y="21124"/>
                </a:lnTo>
                <a:lnTo>
                  <a:pt x="21600" y="18042"/>
                </a:lnTo>
                <a:lnTo>
                  <a:pt x="14400" y="14008"/>
                </a:lnTo>
                <a:lnTo>
                  <a:pt x="14400" y="16168"/>
                </a:lnTo>
                <a:arcTo wR="21600" hR="8322" stAng="7952479" swAng="2622139"/>
                <a:lnTo>
                  <a:pt x="307" y="9720"/>
                </a:lnTo>
                <a:arcTo wR="21600" hR="8322" stAng="-10574617" swAng="5174617"/>
                <a:close/>
              </a:path>
              <a:path fill="darkenLess" w="21600" h="21600">
                <a:moveTo>
                  <a:pt x="21600" y="0"/>
                </a:moveTo>
                <a:arcTo wR="21600" hR="8322" stAng="-5400000" swAng="-5400000"/>
                <a:lnTo>
                  <a:pt x="0" y="8322"/>
                </a:lnTo>
                <a:arcTo wR="21600" hR="8322" stAng="10800000" swAng="-225383"/>
                <a:lnTo>
                  <a:pt x="307" y="9720"/>
                </a:lnTo>
                <a:arcTo wR="21600" hR="8322" stAng="-10574617" swAng="5174617"/>
                <a:close/>
              </a:path>
            </a:pathLst>
          </a:custGeom>
          <a:solidFill>
            <a:srgbClr val="66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162240" y="5342040"/>
            <a:ext cx="2819520" cy="3682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Implementação do circui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994360" y="4384800"/>
            <a:ext cx="533520" cy="484200"/>
          </a:xfrm>
          <a:prstGeom prst="leftRightArrow">
            <a:avLst>
              <a:gd name="adj1" fmla="val 50000"/>
              <a:gd name="adj2" fmla="val 21935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162240" y="6099120"/>
            <a:ext cx="2819520" cy="3682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Programação do dispositiv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267080" y="5746680"/>
            <a:ext cx="609840" cy="330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rot="5368800">
            <a:off x="7448040" y="4008960"/>
            <a:ext cx="381240" cy="230040"/>
          </a:xfrm>
          <a:prstGeom prst="rightArrow">
            <a:avLst>
              <a:gd name="adj1" fmla="val 50000"/>
              <a:gd name="adj2" fmla="val 41432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1371600" y="4215600"/>
            <a:ext cx="1790640" cy="2165400"/>
          </a:xfrm>
          <a:custGeom>
            <a:avLst/>
            <a:gdLst>
              <a:gd name="textAreaLeft" fmla="*/ 239760 w 1790640"/>
              <a:gd name="textAreaRight" fmla="*/ 1550880 w 1790640"/>
              <a:gd name="textAreaTop" fmla="*/ 425520 h 2165400"/>
              <a:gd name="textAreaBottom" fmla="*/ 1522800 h 2165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502" stAng="-5400000" swAng="-5400000"/>
                <a:lnTo>
                  <a:pt x="0" y="10944"/>
                </a:lnTo>
                <a:arcTo wR="21600" hR="8502" stAng="10800000" swAng="-4160743"/>
                <a:lnTo>
                  <a:pt x="18430" y="21508"/>
                </a:lnTo>
                <a:lnTo>
                  <a:pt x="21600" y="18224"/>
                </a:lnTo>
                <a:lnTo>
                  <a:pt x="18430" y="14756"/>
                </a:lnTo>
                <a:lnTo>
                  <a:pt x="18430" y="16911"/>
                </a:lnTo>
                <a:arcTo wR="21600" hR="8502" stAng="6639257" swAng="3964592"/>
                <a:lnTo>
                  <a:pt x="224" y="9723"/>
                </a:lnTo>
                <a:arcTo wR="21600" hR="8502" stAng="-10603849" swAng="5203849"/>
                <a:close/>
              </a:path>
              <a:path fill="darkenLess" w="21600" h="21600">
                <a:moveTo>
                  <a:pt x="21600" y="0"/>
                </a:moveTo>
                <a:arcTo wR="21600" hR="8502" stAng="-5400000" swAng="-5400000"/>
                <a:lnTo>
                  <a:pt x="0" y="8502"/>
                </a:lnTo>
                <a:arcTo wR="21600" hR="8502" stAng="10800000" swAng="-196151"/>
                <a:lnTo>
                  <a:pt x="224" y="9723"/>
                </a:lnTo>
                <a:arcTo wR="21600" hR="8502" stAng="-10603849" swAng="5203849"/>
                <a:close/>
              </a:path>
            </a:pathLst>
          </a:custGeom>
          <a:solidFill>
            <a:srgbClr val="66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228600" y="1484280"/>
            <a:ext cx="2219400" cy="1490040"/>
            <a:chOff x="228600" y="1484280"/>
            <a:chExt cx="2219400" cy="1490040"/>
          </a:xfrm>
        </p:grpSpPr>
        <p:sp>
          <p:nvSpPr>
            <p:cNvPr id="211" name=""/>
            <p:cNvSpPr/>
            <p:nvPr/>
          </p:nvSpPr>
          <p:spPr>
            <a:xfrm>
              <a:off x="237960" y="1541160"/>
              <a:ext cx="2210040" cy="14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876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pt-BR" sz="1400" spc="-1" strike="noStrike">
                  <a:solidFill>
                    <a:srgbClr val="ffffff"/>
                  </a:solidFill>
                  <a:latin typeface="Times New Roman"/>
                </a:rPr>
                <a:t>função do circuit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876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pt-BR" sz="1400" spc="-1" strike="noStrike">
                  <a:solidFill>
                    <a:srgbClr val="ffffff"/>
                  </a:solidFill>
                  <a:latin typeface="Times New Roman"/>
                </a:rPr>
                <a:t>quais são as entradas e       as saídas                       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876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pt-BR" sz="1400" spc="-1" strike="noStrike">
                  <a:solidFill>
                    <a:srgbClr val="ffffff"/>
                  </a:solidFill>
                  <a:latin typeface="Times New Roman"/>
                </a:rPr>
                <a:t>velocidade (temporização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876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pt-BR" sz="1400" spc="-1" strike="noStrike">
                  <a:solidFill>
                    <a:srgbClr val="ffffff"/>
                  </a:solidFill>
                  <a:latin typeface="Times New Roman"/>
                </a:rPr>
                <a:t>síncrono ou assíncrono ?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876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pt-BR" sz="1400" spc="-1" strike="noStrike">
                  <a:solidFill>
                    <a:srgbClr val="ffffff"/>
                  </a:solidFill>
                  <a:latin typeface="Times New Roman"/>
                </a:rPr>
                <a:t>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28600" y="1484280"/>
              <a:ext cx="2209680" cy="148896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2540160" y="2336760"/>
            <a:ext cx="457200" cy="2286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267080" y="1941480"/>
            <a:ext cx="609840" cy="330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124080" y="1484280"/>
            <a:ext cx="2895840" cy="457200"/>
            <a:chOff x="3124080" y="1484280"/>
            <a:chExt cx="2895840" cy="457200"/>
          </a:xfrm>
        </p:grpSpPr>
        <p:sp>
          <p:nvSpPr>
            <p:cNvPr id="216" name=""/>
            <p:cNvSpPr/>
            <p:nvPr/>
          </p:nvSpPr>
          <p:spPr>
            <a:xfrm>
              <a:off x="3124080" y="1484280"/>
              <a:ext cx="2895840" cy="4572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475800" y="1528920"/>
              <a:ext cx="219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Times New Roman"/>
                </a:rPr>
                <a:t>Concepção do projet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2540160" y="1590840"/>
            <a:ext cx="457200" cy="2286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ffffff"/>
                </a:solidFill>
                <a:uFillTx/>
                <a:latin typeface="Arial"/>
              </a:rPr>
              <a:t>Etapas de um projet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672240" y="2924280"/>
            <a:ext cx="1944720" cy="936360"/>
          </a:xfrm>
          <a:prstGeom prst="flowChartAlternateProcess">
            <a:avLst/>
          </a:prstGeom>
          <a:noFill/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Verificação 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err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Funcionais e Temporai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435320" y="5211720"/>
            <a:ext cx="106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modificaçã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542B-7716-4E20-8E3A-7748CDDA307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15800" y="380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ffffff"/>
                </a:solidFill>
                <a:uFillTx/>
                <a:latin typeface="Arial"/>
              </a:rPr>
              <a:t>Elementos para o projeto de um sistema digital em lógica programá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043080" y="3110040"/>
            <a:ext cx="2934000" cy="75240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407040" y="3186000"/>
            <a:ext cx="22060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Dispositi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(CPLD / FPGA / EEPROM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915080" y="1981080"/>
            <a:ext cx="2933640" cy="7527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49880" y="2065320"/>
            <a:ext cx="22669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Ferramentas de </a:t>
            </a:r>
            <a:r>
              <a:rPr b="0" i="1" lang="pt-BR" sz="1600" spc="-1" strike="noStrike">
                <a:solidFill>
                  <a:srgbClr val="ffffff"/>
                </a:solidFill>
                <a:latin typeface="Times New Roman"/>
              </a:rPr>
              <a:t>hardwa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(programadores, cabos, kit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66840" y="1981080"/>
            <a:ext cx="2933640" cy="7527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171440" y="2023920"/>
            <a:ext cx="31244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Ferramentas de </a:t>
            </a:r>
            <a:r>
              <a:rPr b="0" i="1" lang="pt-BR" sz="1600" spc="-1" strike="noStrike">
                <a:solidFill>
                  <a:srgbClr val="ffffff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CAD (</a:t>
            </a:r>
            <a:r>
              <a:rPr b="0" i="1" lang="pt-BR" sz="1400" spc="-1" strike="noStrike">
                <a:solidFill>
                  <a:srgbClr val="ffffff"/>
                </a:solidFill>
                <a:latin typeface="Times New Roman"/>
              </a:rPr>
              <a:t>Computer Aided Design</a:t>
            </a: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) too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219560" y="2357280"/>
            <a:ext cx="685800" cy="0"/>
          </a:xfrm>
          <a:prstGeom prst="line">
            <a:avLst/>
          </a:prstGeom>
          <a:ln w="31680">
            <a:solidFill>
              <a:srgbClr val="ffffff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5424480" y="2715120"/>
            <a:ext cx="484920" cy="484920"/>
          </a:xfrm>
          <a:prstGeom prst="line">
            <a:avLst/>
          </a:prstGeom>
          <a:ln w="31680">
            <a:solidFill>
              <a:srgbClr val="ffffff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4640" y="4352760"/>
            <a:ext cx="8378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Ferramentas CAD: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 utilizadas para a projeto, simulação e implementação do sistem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Exemplos: Quartus II (Altera) e ISE (Xilinx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Ferramentas de </a:t>
            </a:r>
            <a:r>
              <a:rPr b="1" i="1" lang="pt-BR" sz="1800" spc="-1" strike="noStrike">
                <a:solidFill>
                  <a:srgbClr val="ffffff"/>
                </a:solidFill>
                <a:latin typeface="Times New Roman"/>
              </a:rPr>
              <a:t>hardware</a:t>
            </a: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interface entre a ferramenta CAD e o dispositiv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Dispositivos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- são os circuitos integrados onde será implementado o sistem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DCDA-C014-43AC-B154-1B1FDE629B0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ffffff"/>
                </a:solidFill>
                <a:uFillTx/>
                <a:latin typeface="Arial"/>
              </a:rPr>
              <a:t>Modos de criação do projet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98984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Esquemát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Modo gráf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Utiliza elementos de bibliote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Nível baixo de abstraç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Linguagem Descritiva de Hardware (HD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Código textual (ex: Verilog, VHD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adronizada (ex: VHDL IEEE 1076-199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Independe da tecnologia/fabricante utilizados (portabilidad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Nível médio de abstraç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rojetos de grande porte desenvolvidos por vários projetistas ao mesmo temp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Linguagem de Sistem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inda sendo introduzidas e padronizad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ystem Verilog, System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Nível alto de abstraç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2086-E8DF-4C53-BA77-6517958F1C5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ffffff"/>
                </a:solidFill>
                <a:uFillTx/>
                <a:latin typeface="Arial"/>
              </a:rPr>
              <a:t>Dicas de Simulaçã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76520"/>
            <a:ext cx="82296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Não esqueça NENHUMA entrada do circuito simulado sem estímul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Simule do menor para o maior circuito, passo a pass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pós cada modificação no projeto, uma nova simulação deve ser feit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Salve os resultados de simulação quando julgar importa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D3B6-2E1D-43E5-BEAA-7C75683C228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ffffff"/>
                </a:solidFill>
                <a:uFillTx/>
                <a:latin typeface="Arial"/>
              </a:rPr>
              <a:t>Programando FPG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69600" y="1649520"/>
            <a:ext cx="788436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ffffff"/>
                </a:solidFill>
                <a:uFillTx/>
                <a:latin typeface="Times New Roman"/>
              </a:rPr>
              <a:t>Opção 1: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Diretamente com o cabo paralelo (JTAG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A FPGA tem que ser reprogramada toda vez que o sistema é lig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ffffff"/>
                </a:solidFill>
                <a:uFillTx/>
                <a:latin typeface="Times New Roman"/>
              </a:rPr>
              <a:t>Opção 2: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Através de memórias EEPRO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A FPGA não precisa ser reprogramada toda vez que o sistema é ligado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pois os dados de configuração ficam armazenados na EEPRO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Pode-se programar FPGAs em cadeia através de uma ou mais EEPROM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Modo mais utilizado.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37E7-5EDA-4AE3-9137-15786C30810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ffffff"/>
                </a:solidFill>
                <a:uFillTx/>
                <a:latin typeface="Arial"/>
              </a:rPr>
              <a:t>Programando FPG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14440" y="1447920"/>
            <a:ext cx="74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Opção 1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 - Diretamente com o cabo de programação (serial ou paralel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475360" y="5900760"/>
            <a:ext cx="415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Aparato para a programação de uma FP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1406160" y="2037960"/>
            <a:ext cx="6292440" cy="3695760"/>
            <a:chOff x="1406160" y="2037960"/>
            <a:chExt cx="6292440" cy="3695760"/>
          </a:xfrm>
        </p:grpSpPr>
        <p:sp>
          <p:nvSpPr>
            <p:cNvPr id="242" name=""/>
            <p:cNvSpPr/>
            <p:nvPr/>
          </p:nvSpPr>
          <p:spPr>
            <a:xfrm>
              <a:off x="5899320" y="2539800"/>
              <a:ext cx="1600200" cy="1447560"/>
            </a:xfrm>
            <a:prstGeom prst="rect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127920" y="298116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cc0000"/>
                  </a:solidFill>
                  <a:latin typeface="Times New Roman"/>
                </a:rPr>
                <a:t>FPG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6153120" y="2387520"/>
              <a:ext cx="1106280" cy="151920"/>
              <a:chOff x="6153120" y="2387520"/>
              <a:chExt cx="1106280" cy="151920"/>
            </a:xfrm>
          </p:grpSpPr>
          <p:sp>
            <p:nvSpPr>
              <p:cNvPr id="245" name=""/>
              <p:cNvSpPr/>
              <p:nvPr/>
            </p:nvSpPr>
            <p:spPr>
              <a:xfrm>
                <a:off x="6153120" y="2387520"/>
                <a:ext cx="39600" cy="151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330600" y="2387520"/>
                <a:ext cx="39960" cy="151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508440" y="2387520"/>
                <a:ext cx="39960" cy="151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686280" y="2387520"/>
                <a:ext cx="39600" cy="151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864120" y="2387520"/>
                <a:ext cx="39600" cy="151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041960" y="2387520"/>
                <a:ext cx="39600" cy="151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219800" y="2387520"/>
                <a:ext cx="39600" cy="151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6153120" y="3987720"/>
              <a:ext cx="1106280" cy="151920"/>
              <a:chOff x="6153120" y="3987720"/>
              <a:chExt cx="1106280" cy="151920"/>
            </a:xfrm>
          </p:grpSpPr>
          <p:sp>
            <p:nvSpPr>
              <p:cNvPr id="253" name=""/>
              <p:cNvSpPr/>
              <p:nvPr/>
            </p:nvSpPr>
            <p:spPr>
              <a:xfrm>
                <a:off x="6153120" y="3987720"/>
                <a:ext cx="39600" cy="151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330600" y="3987720"/>
                <a:ext cx="39960" cy="151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508440" y="3987720"/>
                <a:ext cx="39960" cy="151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686280" y="3987720"/>
                <a:ext cx="39600" cy="151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864120" y="3987720"/>
                <a:ext cx="39600" cy="151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41960" y="3987720"/>
                <a:ext cx="39600" cy="151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219800" y="3987720"/>
                <a:ext cx="39600" cy="151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7499520" y="2711880"/>
              <a:ext cx="152280" cy="1105560"/>
              <a:chOff x="7499520" y="2711880"/>
              <a:chExt cx="152280" cy="1105560"/>
            </a:xfrm>
          </p:grpSpPr>
          <p:sp>
            <p:nvSpPr>
              <p:cNvPr id="261" name=""/>
              <p:cNvSpPr/>
              <p:nvPr/>
            </p:nvSpPr>
            <p:spPr>
              <a:xfrm rot="16200000">
                <a:off x="7556040" y="3721680"/>
                <a:ext cx="392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16200000">
                <a:off x="7555680" y="3544200"/>
                <a:ext cx="3960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6200000">
                <a:off x="7555680" y="3366360"/>
                <a:ext cx="3960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6200000">
                <a:off x="7556040" y="3188880"/>
                <a:ext cx="392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6200000">
                <a:off x="7556040" y="3011040"/>
                <a:ext cx="392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6200000">
                <a:off x="7556040" y="2833200"/>
                <a:ext cx="392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6200000">
                <a:off x="7556040" y="2655360"/>
                <a:ext cx="392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5746680" y="2711880"/>
              <a:ext cx="152280" cy="1105560"/>
              <a:chOff x="5746680" y="2711880"/>
              <a:chExt cx="152280" cy="1105560"/>
            </a:xfrm>
          </p:grpSpPr>
          <p:sp>
            <p:nvSpPr>
              <p:cNvPr id="269" name=""/>
              <p:cNvSpPr/>
              <p:nvPr/>
            </p:nvSpPr>
            <p:spPr>
              <a:xfrm rot="16200000">
                <a:off x="5803200" y="3721680"/>
                <a:ext cx="392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6200000">
                <a:off x="5802840" y="3544200"/>
                <a:ext cx="3960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16200000">
                <a:off x="5802840" y="3366360"/>
                <a:ext cx="3960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16200000">
                <a:off x="5803200" y="3188880"/>
                <a:ext cx="392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16200000">
                <a:off x="5803200" y="3011040"/>
                <a:ext cx="392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6200000">
                <a:off x="5803200" y="2833200"/>
                <a:ext cx="392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6200000">
                <a:off x="5803200" y="2655360"/>
                <a:ext cx="392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6" name=""/>
            <p:cNvSpPr/>
            <p:nvPr/>
          </p:nvSpPr>
          <p:spPr>
            <a:xfrm rot="5400000">
              <a:off x="6602760" y="3681360"/>
              <a:ext cx="60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ffff"/>
                  </a:solidFill>
                  <a:latin typeface="Times New Roman"/>
                </a:rPr>
                <a:t>Vc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5400000">
              <a:off x="5872320" y="363708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ffff"/>
                  </a:solidFill>
                  <a:latin typeface="Times New Roman"/>
                </a:rPr>
                <a:t>GN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6775560" y="4139640"/>
              <a:ext cx="923040" cy="685440"/>
              <a:chOff x="6775560" y="4139640"/>
              <a:chExt cx="923040" cy="685440"/>
            </a:xfrm>
          </p:grpSpPr>
          <p:sp>
            <p:nvSpPr>
              <p:cNvPr id="279" name=""/>
              <p:cNvSpPr/>
              <p:nvPr/>
            </p:nvSpPr>
            <p:spPr>
              <a:xfrm>
                <a:off x="6775560" y="4444200"/>
                <a:ext cx="2282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775560" y="4520520"/>
                <a:ext cx="2282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6883200" y="4139640"/>
                <a:ext cx="0" cy="3042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>
                <a:off x="6883200" y="4520520"/>
                <a:ext cx="0" cy="3045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966000" y="4322160"/>
                <a:ext cx="732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ffffff"/>
                    </a:solidFill>
                    <a:latin typeface="Times New Roman"/>
                  </a:rPr>
                  <a:t>C=0,1</a:t>
                </a:r>
                <a:r>
                  <a:rPr b="0" lang="pt-BR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r>
                  <a:rPr b="0" lang="pt-BR" sz="1200" spc="-1" strike="noStrike">
                    <a:solidFill>
                      <a:srgbClr val="ffffff"/>
                    </a:solidFill>
                    <a:latin typeface="Times New Roman"/>
                  </a:rPr>
                  <a:t>F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6769080" y="4825800"/>
              <a:ext cx="228600" cy="88560"/>
              <a:chOff x="6769080" y="4825800"/>
              <a:chExt cx="228600" cy="88560"/>
            </a:xfrm>
          </p:grpSpPr>
          <p:sp>
            <p:nvSpPr>
              <p:cNvPr id="285" name=""/>
              <p:cNvSpPr/>
              <p:nvPr/>
            </p:nvSpPr>
            <p:spPr>
              <a:xfrm>
                <a:off x="6769080" y="4825800"/>
                <a:ext cx="22860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807240" y="4869720"/>
                <a:ext cx="15228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845400" y="4914360"/>
                <a:ext cx="7596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6058080" y="4368600"/>
              <a:ext cx="228600" cy="88560"/>
              <a:chOff x="6058080" y="4368600"/>
              <a:chExt cx="228600" cy="88560"/>
            </a:xfrm>
          </p:grpSpPr>
          <p:sp>
            <p:nvSpPr>
              <p:cNvPr id="289" name=""/>
              <p:cNvSpPr/>
              <p:nvPr/>
            </p:nvSpPr>
            <p:spPr>
              <a:xfrm>
                <a:off x="6058080" y="4368600"/>
                <a:ext cx="22860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096240" y="4412520"/>
                <a:ext cx="15228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134400" y="4457160"/>
                <a:ext cx="7596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2" name=""/>
            <p:cNvSpPr/>
            <p:nvPr/>
          </p:nvSpPr>
          <p:spPr>
            <a:xfrm>
              <a:off x="6172200" y="4140000"/>
              <a:ext cx="0" cy="2282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830200" y="258444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ffffff"/>
                  </a:solidFill>
                  <a:latin typeface="Times New Roman"/>
                </a:rPr>
                <a:t>PRO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31280" y="2760480"/>
              <a:ext cx="45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ffffff"/>
                  </a:solidFill>
                  <a:latin typeface="Times New Roman"/>
                </a:rPr>
                <a:t>DI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830920" y="311148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ffffff"/>
                  </a:solidFill>
                  <a:latin typeface="Times New Roman"/>
                </a:rPr>
                <a:t>CCLK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30560" y="2936880"/>
              <a:ext cx="41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ffffff"/>
                  </a:solidFill>
                  <a:latin typeface="Times New Roman"/>
                </a:rPr>
                <a:t>D/P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183800" y="258912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ffffff"/>
                  </a:solidFill>
                  <a:latin typeface="Times New Roman"/>
                </a:rPr>
                <a:t>I/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189920" y="365760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ffffff"/>
                  </a:solidFill>
                  <a:latin typeface="Times New Roman"/>
                </a:rPr>
                <a:t>I/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346880" y="2844720"/>
              <a:ext cx="0" cy="761760"/>
            </a:xfrm>
            <a:prstGeom prst="line">
              <a:avLst/>
            </a:prstGeom>
            <a:ln w="158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561720" y="4902120"/>
              <a:ext cx="63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Times New Roman"/>
                </a:rPr>
                <a:t>GN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8100000">
              <a:off x="3155760" y="2133000"/>
              <a:ext cx="838080" cy="1371240"/>
            </a:xfrm>
            <a:custGeom>
              <a:avLst/>
              <a:gdLst>
                <a:gd name="textAreaLeft" fmla="*/ 40680 w 838080"/>
                <a:gd name="textAreaRight" fmla="*/ 797400 w 838080"/>
                <a:gd name="textAreaTop" fmla="*/ 40680 h 1371240"/>
                <a:gd name="textAreaBottom" fmla="*/ 1330560 h 1371240"/>
              </a:gdLst>
              <a:ahLst/>
              <a:rect l="textAreaLeft" t="textAreaTop" r="textAreaRight" b="textAreaBottom"/>
              <a:pathLst>
                <a:path w="21600" h="35335">
                  <a:moveTo>
                    <a:pt x="3600" y="0"/>
                  </a:moveTo>
                  <a:arcTo wR="3600" hR="3600" stAng="16200000" swAng="-5400000"/>
                  <a:lnTo>
                    <a:pt x="0" y="31735"/>
                  </a:lnTo>
                  <a:arcTo wR="3600" hR="3600" stAng="10800000" swAng="-5400000"/>
                  <a:lnTo>
                    <a:pt x="18000" y="353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2700000">
              <a:off x="2944080" y="2517120"/>
              <a:ext cx="1296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cc0000"/>
                  </a:solidFill>
                  <a:latin typeface="Times New Roman"/>
                </a:rPr>
                <a:t>Programmi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cc0000"/>
                  </a:solidFill>
                  <a:latin typeface="Times New Roman"/>
                </a:rPr>
                <a:t>Cabl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3879720" y="3098520"/>
              <a:ext cx="533520" cy="532800"/>
              <a:chOff x="3879720" y="3098520"/>
              <a:chExt cx="533520" cy="532800"/>
            </a:xfrm>
          </p:grpSpPr>
          <p:sp>
            <p:nvSpPr>
              <p:cNvPr id="304" name=""/>
              <p:cNvSpPr/>
              <p:nvPr/>
            </p:nvSpPr>
            <p:spPr>
              <a:xfrm>
                <a:off x="4184640" y="3174480"/>
                <a:ext cx="152280" cy="1519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956040" y="3403080"/>
                <a:ext cx="152280" cy="1519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260960" y="3098520"/>
                <a:ext cx="152280" cy="152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032360" y="3326760"/>
                <a:ext cx="152280" cy="152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108320" y="3250800"/>
                <a:ext cx="152640" cy="1519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879720" y="3479400"/>
                <a:ext cx="152640" cy="1519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4413240" y="2730240"/>
              <a:ext cx="1352520" cy="583920"/>
            </a:xfrm>
            <a:custGeom>
              <a:avLst/>
              <a:gdLst/>
              <a:ahLst/>
              <a:rect l="l" t="t" r="r" b="b"/>
              <a:pathLst>
                <a:path w="852" h="368">
                  <a:moveTo>
                    <a:pt x="0" y="324"/>
                  </a:moveTo>
                  <a:cubicBezTo>
                    <a:pt x="29" y="353"/>
                    <a:pt x="85" y="360"/>
                    <a:pt x="124" y="368"/>
                  </a:cubicBezTo>
                  <a:cubicBezTo>
                    <a:pt x="215" y="365"/>
                    <a:pt x="290" y="360"/>
                    <a:pt x="376" y="336"/>
                  </a:cubicBezTo>
                  <a:cubicBezTo>
                    <a:pt x="387" y="325"/>
                    <a:pt x="416" y="297"/>
                    <a:pt x="420" y="288"/>
                  </a:cubicBezTo>
                  <a:cubicBezTo>
                    <a:pt x="448" y="226"/>
                    <a:pt x="420" y="220"/>
                    <a:pt x="468" y="172"/>
                  </a:cubicBezTo>
                  <a:cubicBezTo>
                    <a:pt x="473" y="153"/>
                    <a:pt x="484" y="146"/>
                    <a:pt x="492" y="128"/>
                  </a:cubicBezTo>
                  <a:cubicBezTo>
                    <a:pt x="502" y="105"/>
                    <a:pt x="506" y="73"/>
                    <a:pt x="532" y="64"/>
                  </a:cubicBezTo>
                  <a:cubicBezTo>
                    <a:pt x="552" y="44"/>
                    <a:pt x="574" y="50"/>
                    <a:pt x="600" y="44"/>
                  </a:cubicBezTo>
                  <a:cubicBezTo>
                    <a:pt x="683" y="25"/>
                    <a:pt x="766" y="0"/>
                    <a:pt x="852" y="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330800" y="2908080"/>
              <a:ext cx="1415880" cy="553680"/>
            </a:xfrm>
            <a:custGeom>
              <a:avLst/>
              <a:gdLst/>
              <a:ahLst/>
              <a:rect l="l" t="t" r="r" b="b"/>
              <a:pathLst>
                <a:path w="892" h="349">
                  <a:moveTo>
                    <a:pt x="0" y="260"/>
                  </a:moveTo>
                  <a:cubicBezTo>
                    <a:pt x="11" y="275"/>
                    <a:pt x="11" y="286"/>
                    <a:pt x="28" y="292"/>
                  </a:cubicBezTo>
                  <a:cubicBezTo>
                    <a:pt x="34" y="309"/>
                    <a:pt x="54" y="316"/>
                    <a:pt x="72" y="320"/>
                  </a:cubicBezTo>
                  <a:cubicBezTo>
                    <a:pt x="132" y="333"/>
                    <a:pt x="181" y="344"/>
                    <a:pt x="244" y="348"/>
                  </a:cubicBezTo>
                  <a:cubicBezTo>
                    <a:pt x="329" y="345"/>
                    <a:pt x="327" y="349"/>
                    <a:pt x="380" y="336"/>
                  </a:cubicBezTo>
                  <a:cubicBezTo>
                    <a:pt x="396" y="325"/>
                    <a:pt x="413" y="322"/>
                    <a:pt x="432" y="316"/>
                  </a:cubicBezTo>
                  <a:cubicBezTo>
                    <a:pt x="441" y="313"/>
                    <a:pt x="448" y="305"/>
                    <a:pt x="456" y="300"/>
                  </a:cubicBezTo>
                  <a:cubicBezTo>
                    <a:pt x="476" y="287"/>
                    <a:pt x="493" y="282"/>
                    <a:pt x="516" y="276"/>
                  </a:cubicBezTo>
                  <a:cubicBezTo>
                    <a:pt x="528" y="258"/>
                    <a:pt x="537" y="260"/>
                    <a:pt x="560" y="256"/>
                  </a:cubicBezTo>
                  <a:cubicBezTo>
                    <a:pt x="572" y="238"/>
                    <a:pt x="584" y="234"/>
                    <a:pt x="604" y="224"/>
                  </a:cubicBezTo>
                  <a:cubicBezTo>
                    <a:pt x="614" y="209"/>
                    <a:pt x="625" y="190"/>
                    <a:pt x="640" y="180"/>
                  </a:cubicBezTo>
                  <a:cubicBezTo>
                    <a:pt x="644" y="142"/>
                    <a:pt x="663" y="87"/>
                    <a:pt x="688" y="56"/>
                  </a:cubicBezTo>
                  <a:cubicBezTo>
                    <a:pt x="707" y="32"/>
                    <a:pt x="739" y="17"/>
                    <a:pt x="764" y="0"/>
                  </a:cubicBezTo>
                  <a:cubicBezTo>
                    <a:pt x="881" y="4"/>
                    <a:pt x="839" y="4"/>
                    <a:pt x="892" y="4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260960" y="3071880"/>
              <a:ext cx="1492200" cy="521640"/>
            </a:xfrm>
            <a:custGeom>
              <a:avLst/>
              <a:gdLst/>
              <a:ahLst/>
              <a:rect l="l" t="t" r="r" b="b"/>
              <a:pathLst>
                <a:path w="940" h="329">
                  <a:moveTo>
                    <a:pt x="0" y="209"/>
                  </a:moveTo>
                  <a:cubicBezTo>
                    <a:pt x="46" y="221"/>
                    <a:pt x="25" y="252"/>
                    <a:pt x="56" y="273"/>
                  </a:cubicBezTo>
                  <a:cubicBezTo>
                    <a:pt x="65" y="279"/>
                    <a:pt x="77" y="278"/>
                    <a:pt x="88" y="281"/>
                  </a:cubicBezTo>
                  <a:cubicBezTo>
                    <a:pt x="125" y="318"/>
                    <a:pt x="217" y="319"/>
                    <a:pt x="268" y="325"/>
                  </a:cubicBezTo>
                  <a:cubicBezTo>
                    <a:pt x="417" y="323"/>
                    <a:pt x="472" y="329"/>
                    <a:pt x="584" y="313"/>
                  </a:cubicBezTo>
                  <a:cubicBezTo>
                    <a:pt x="598" y="307"/>
                    <a:pt x="616" y="307"/>
                    <a:pt x="628" y="297"/>
                  </a:cubicBezTo>
                  <a:cubicBezTo>
                    <a:pt x="644" y="284"/>
                    <a:pt x="672" y="253"/>
                    <a:pt x="672" y="253"/>
                  </a:cubicBezTo>
                  <a:cubicBezTo>
                    <a:pt x="673" y="245"/>
                    <a:pt x="672" y="236"/>
                    <a:pt x="676" y="229"/>
                  </a:cubicBezTo>
                  <a:cubicBezTo>
                    <a:pt x="678" y="225"/>
                    <a:pt x="686" y="225"/>
                    <a:pt x="688" y="221"/>
                  </a:cubicBezTo>
                  <a:cubicBezTo>
                    <a:pt x="713" y="172"/>
                    <a:pt x="673" y="216"/>
                    <a:pt x="704" y="185"/>
                  </a:cubicBezTo>
                  <a:cubicBezTo>
                    <a:pt x="709" y="148"/>
                    <a:pt x="724" y="116"/>
                    <a:pt x="736" y="81"/>
                  </a:cubicBezTo>
                  <a:cubicBezTo>
                    <a:pt x="747" y="48"/>
                    <a:pt x="734" y="56"/>
                    <a:pt x="756" y="49"/>
                  </a:cubicBezTo>
                  <a:cubicBezTo>
                    <a:pt x="805" y="0"/>
                    <a:pt x="787" y="21"/>
                    <a:pt x="900" y="17"/>
                  </a:cubicBezTo>
                  <a:cubicBezTo>
                    <a:pt x="929" y="7"/>
                    <a:pt x="916" y="9"/>
                    <a:pt x="940" y="9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184640" y="3224160"/>
              <a:ext cx="1581120" cy="499680"/>
            </a:xfrm>
            <a:custGeom>
              <a:avLst/>
              <a:gdLst/>
              <a:ahLst/>
              <a:rect l="l" t="t" r="r" b="b"/>
              <a:pathLst>
                <a:path w="996" h="315">
                  <a:moveTo>
                    <a:pt x="0" y="157"/>
                  </a:moveTo>
                  <a:cubicBezTo>
                    <a:pt x="13" y="161"/>
                    <a:pt x="30" y="159"/>
                    <a:pt x="40" y="169"/>
                  </a:cubicBezTo>
                  <a:cubicBezTo>
                    <a:pt x="43" y="172"/>
                    <a:pt x="41" y="178"/>
                    <a:pt x="44" y="181"/>
                  </a:cubicBezTo>
                  <a:cubicBezTo>
                    <a:pt x="47" y="185"/>
                    <a:pt x="52" y="186"/>
                    <a:pt x="56" y="189"/>
                  </a:cubicBezTo>
                  <a:cubicBezTo>
                    <a:pt x="64" y="213"/>
                    <a:pt x="78" y="225"/>
                    <a:pt x="96" y="245"/>
                  </a:cubicBezTo>
                  <a:cubicBezTo>
                    <a:pt x="103" y="267"/>
                    <a:pt x="131" y="262"/>
                    <a:pt x="152" y="265"/>
                  </a:cubicBezTo>
                  <a:cubicBezTo>
                    <a:pt x="196" y="287"/>
                    <a:pt x="172" y="280"/>
                    <a:pt x="224" y="285"/>
                  </a:cubicBezTo>
                  <a:cubicBezTo>
                    <a:pt x="315" y="315"/>
                    <a:pt x="393" y="295"/>
                    <a:pt x="504" y="297"/>
                  </a:cubicBezTo>
                  <a:cubicBezTo>
                    <a:pt x="572" y="305"/>
                    <a:pt x="632" y="309"/>
                    <a:pt x="700" y="305"/>
                  </a:cubicBezTo>
                  <a:cubicBezTo>
                    <a:pt x="721" y="298"/>
                    <a:pt x="736" y="286"/>
                    <a:pt x="756" y="281"/>
                  </a:cubicBezTo>
                  <a:cubicBezTo>
                    <a:pt x="773" y="268"/>
                    <a:pt x="787" y="252"/>
                    <a:pt x="804" y="241"/>
                  </a:cubicBezTo>
                  <a:cubicBezTo>
                    <a:pt x="809" y="233"/>
                    <a:pt x="815" y="225"/>
                    <a:pt x="820" y="217"/>
                  </a:cubicBezTo>
                  <a:cubicBezTo>
                    <a:pt x="823" y="213"/>
                    <a:pt x="828" y="205"/>
                    <a:pt x="828" y="205"/>
                  </a:cubicBezTo>
                  <a:cubicBezTo>
                    <a:pt x="837" y="169"/>
                    <a:pt x="826" y="51"/>
                    <a:pt x="868" y="37"/>
                  </a:cubicBezTo>
                  <a:cubicBezTo>
                    <a:pt x="893" y="0"/>
                    <a:pt x="966" y="17"/>
                    <a:pt x="996" y="17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841920" y="4825800"/>
              <a:ext cx="1066680" cy="533160"/>
            </a:xfrm>
            <a:prstGeom prst="rect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790800" y="4921200"/>
              <a:ext cx="117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cc0000"/>
                  </a:solidFill>
                  <a:latin typeface="Times New Roman"/>
                </a:rPr>
                <a:t>Fonte D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994200" y="4597200"/>
              <a:ext cx="152280" cy="22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603680" y="4597200"/>
              <a:ext cx="152640" cy="22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700520" y="4575240"/>
              <a:ext cx="509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ffffff"/>
                  </a:solidFill>
                  <a:latin typeface="Times New Roman"/>
                </a:rPr>
                <a:t>GN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956040" y="3625920"/>
              <a:ext cx="139680" cy="983880"/>
            </a:xfrm>
            <a:custGeom>
              <a:avLst/>
              <a:gdLst/>
              <a:ahLst/>
              <a:rect l="l" t="t" r="r" b="b"/>
              <a:pathLst>
                <a:path w="88" h="620">
                  <a:moveTo>
                    <a:pt x="40" y="0"/>
                  </a:moveTo>
                  <a:cubicBezTo>
                    <a:pt x="60" y="7"/>
                    <a:pt x="68" y="26"/>
                    <a:pt x="76" y="44"/>
                  </a:cubicBezTo>
                  <a:cubicBezTo>
                    <a:pt x="79" y="52"/>
                    <a:pt x="81" y="60"/>
                    <a:pt x="84" y="68"/>
                  </a:cubicBezTo>
                  <a:cubicBezTo>
                    <a:pt x="85" y="72"/>
                    <a:pt x="88" y="80"/>
                    <a:pt x="88" y="80"/>
                  </a:cubicBezTo>
                  <a:cubicBezTo>
                    <a:pt x="86" y="124"/>
                    <a:pt x="85" y="206"/>
                    <a:pt x="40" y="236"/>
                  </a:cubicBezTo>
                  <a:cubicBezTo>
                    <a:pt x="20" y="266"/>
                    <a:pt x="30" y="252"/>
                    <a:pt x="12" y="276"/>
                  </a:cubicBezTo>
                  <a:cubicBezTo>
                    <a:pt x="4" y="308"/>
                    <a:pt x="3" y="320"/>
                    <a:pt x="0" y="360"/>
                  </a:cubicBezTo>
                  <a:cubicBezTo>
                    <a:pt x="6" y="411"/>
                    <a:pt x="11" y="491"/>
                    <a:pt x="48" y="528"/>
                  </a:cubicBezTo>
                  <a:cubicBezTo>
                    <a:pt x="52" y="558"/>
                    <a:pt x="60" y="590"/>
                    <a:pt x="60" y="62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102200" y="3549600"/>
              <a:ext cx="577800" cy="1066320"/>
            </a:xfrm>
            <a:custGeom>
              <a:avLst/>
              <a:gdLst/>
              <a:ahLst/>
              <a:rect l="l" t="t" r="r" b="b"/>
              <a:pathLst>
                <a:path w="364" h="672">
                  <a:moveTo>
                    <a:pt x="0" y="0"/>
                  </a:moveTo>
                  <a:cubicBezTo>
                    <a:pt x="11" y="23"/>
                    <a:pt x="21" y="46"/>
                    <a:pt x="32" y="68"/>
                  </a:cubicBezTo>
                  <a:cubicBezTo>
                    <a:pt x="34" y="72"/>
                    <a:pt x="32" y="78"/>
                    <a:pt x="36" y="80"/>
                  </a:cubicBezTo>
                  <a:cubicBezTo>
                    <a:pt x="44" y="85"/>
                    <a:pt x="55" y="85"/>
                    <a:pt x="64" y="88"/>
                  </a:cubicBezTo>
                  <a:cubicBezTo>
                    <a:pt x="70" y="107"/>
                    <a:pt x="79" y="138"/>
                    <a:pt x="96" y="144"/>
                  </a:cubicBezTo>
                  <a:cubicBezTo>
                    <a:pt x="103" y="164"/>
                    <a:pt x="106" y="180"/>
                    <a:pt x="124" y="192"/>
                  </a:cubicBezTo>
                  <a:cubicBezTo>
                    <a:pt x="133" y="244"/>
                    <a:pt x="122" y="253"/>
                    <a:pt x="176" y="260"/>
                  </a:cubicBezTo>
                  <a:cubicBezTo>
                    <a:pt x="196" y="271"/>
                    <a:pt x="213" y="283"/>
                    <a:pt x="232" y="296"/>
                  </a:cubicBezTo>
                  <a:cubicBezTo>
                    <a:pt x="243" y="328"/>
                    <a:pt x="227" y="291"/>
                    <a:pt x="248" y="312"/>
                  </a:cubicBezTo>
                  <a:cubicBezTo>
                    <a:pt x="255" y="319"/>
                    <a:pt x="264" y="336"/>
                    <a:pt x="264" y="336"/>
                  </a:cubicBezTo>
                  <a:cubicBezTo>
                    <a:pt x="268" y="352"/>
                    <a:pt x="271" y="362"/>
                    <a:pt x="280" y="376"/>
                  </a:cubicBezTo>
                  <a:cubicBezTo>
                    <a:pt x="286" y="401"/>
                    <a:pt x="288" y="425"/>
                    <a:pt x="300" y="448"/>
                  </a:cubicBezTo>
                  <a:cubicBezTo>
                    <a:pt x="304" y="467"/>
                    <a:pt x="301" y="478"/>
                    <a:pt x="320" y="484"/>
                  </a:cubicBezTo>
                  <a:cubicBezTo>
                    <a:pt x="351" y="530"/>
                    <a:pt x="343" y="581"/>
                    <a:pt x="360" y="632"/>
                  </a:cubicBezTo>
                  <a:cubicBezTo>
                    <a:pt x="364" y="669"/>
                    <a:pt x="364" y="656"/>
                    <a:pt x="364" y="672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711680" y="4225680"/>
              <a:ext cx="1454040" cy="396720"/>
            </a:xfrm>
            <a:custGeom>
              <a:avLst/>
              <a:gdLst/>
              <a:ahLst/>
              <a:rect l="l" t="t" r="r" b="b"/>
              <a:pathLst>
                <a:path w="1172" h="250">
                  <a:moveTo>
                    <a:pt x="1172" y="14"/>
                  </a:moveTo>
                  <a:cubicBezTo>
                    <a:pt x="838" y="3"/>
                    <a:pt x="506" y="0"/>
                    <a:pt x="172" y="10"/>
                  </a:cubicBezTo>
                  <a:cubicBezTo>
                    <a:pt x="145" y="19"/>
                    <a:pt x="118" y="25"/>
                    <a:pt x="92" y="34"/>
                  </a:cubicBezTo>
                  <a:cubicBezTo>
                    <a:pt x="83" y="48"/>
                    <a:pt x="82" y="56"/>
                    <a:pt x="68" y="66"/>
                  </a:cubicBezTo>
                  <a:cubicBezTo>
                    <a:pt x="62" y="85"/>
                    <a:pt x="49" y="104"/>
                    <a:pt x="40" y="122"/>
                  </a:cubicBezTo>
                  <a:cubicBezTo>
                    <a:pt x="28" y="146"/>
                    <a:pt x="26" y="177"/>
                    <a:pt x="16" y="202"/>
                  </a:cubicBezTo>
                  <a:cubicBezTo>
                    <a:pt x="10" y="217"/>
                    <a:pt x="0" y="233"/>
                    <a:pt x="0" y="25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134040" y="4209840"/>
              <a:ext cx="7632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84720" y="4292640"/>
              <a:ext cx="3492360" cy="1441080"/>
            </a:xfrm>
            <a:custGeom>
              <a:avLst/>
              <a:gdLst/>
              <a:ahLst/>
              <a:rect l="l" t="t" r="r" b="b"/>
              <a:pathLst>
                <a:path w="2200" h="908">
                  <a:moveTo>
                    <a:pt x="428" y="188"/>
                  </a:moveTo>
                  <a:cubicBezTo>
                    <a:pt x="385" y="152"/>
                    <a:pt x="319" y="138"/>
                    <a:pt x="264" y="132"/>
                  </a:cubicBezTo>
                  <a:cubicBezTo>
                    <a:pt x="213" y="119"/>
                    <a:pt x="159" y="127"/>
                    <a:pt x="108" y="136"/>
                  </a:cubicBezTo>
                  <a:cubicBezTo>
                    <a:pt x="33" y="201"/>
                    <a:pt x="126" y="129"/>
                    <a:pt x="48" y="164"/>
                  </a:cubicBezTo>
                  <a:cubicBezTo>
                    <a:pt x="44" y="166"/>
                    <a:pt x="46" y="172"/>
                    <a:pt x="44" y="176"/>
                  </a:cubicBezTo>
                  <a:cubicBezTo>
                    <a:pt x="35" y="199"/>
                    <a:pt x="16" y="244"/>
                    <a:pt x="16" y="244"/>
                  </a:cubicBezTo>
                  <a:cubicBezTo>
                    <a:pt x="12" y="282"/>
                    <a:pt x="4" y="318"/>
                    <a:pt x="0" y="356"/>
                  </a:cubicBezTo>
                  <a:cubicBezTo>
                    <a:pt x="4" y="398"/>
                    <a:pt x="1" y="452"/>
                    <a:pt x="28" y="488"/>
                  </a:cubicBezTo>
                  <a:cubicBezTo>
                    <a:pt x="39" y="554"/>
                    <a:pt x="22" y="462"/>
                    <a:pt x="44" y="544"/>
                  </a:cubicBezTo>
                  <a:cubicBezTo>
                    <a:pt x="55" y="586"/>
                    <a:pt x="54" y="617"/>
                    <a:pt x="100" y="632"/>
                  </a:cubicBezTo>
                  <a:cubicBezTo>
                    <a:pt x="107" y="674"/>
                    <a:pt x="95" y="643"/>
                    <a:pt x="128" y="664"/>
                  </a:cubicBezTo>
                  <a:cubicBezTo>
                    <a:pt x="142" y="673"/>
                    <a:pt x="165" y="710"/>
                    <a:pt x="176" y="720"/>
                  </a:cubicBezTo>
                  <a:cubicBezTo>
                    <a:pt x="188" y="730"/>
                    <a:pt x="204" y="734"/>
                    <a:pt x="216" y="744"/>
                  </a:cubicBezTo>
                  <a:cubicBezTo>
                    <a:pt x="227" y="753"/>
                    <a:pt x="232" y="768"/>
                    <a:pt x="244" y="776"/>
                  </a:cubicBezTo>
                  <a:cubicBezTo>
                    <a:pt x="261" y="787"/>
                    <a:pt x="281" y="792"/>
                    <a:pt x="300" y="800"/>
                  </a:cubicBezTo>
                  <a:cubicBezTo>
                    <a:pt x="314" y="806"/>
                    <a:pt x="326" y="819"/>
                    <a:pt x="340" y="824"/>
                  </a:cubicBezTo>
                  <a:cubicBezTo>
                    <a:pt x="392" y="844"/>
                    <a:pt x="444" y="854"/>
                    <a:pt x="500" y="860"/>
                  </a:cubicBezTo>
                  <a:cubicBezTo>
                    <a:pt x="612" y="908"/>
                    <a:pt x="986" y="868"/>
                    <a:pt x="1000" y="868"/>
                  </a:cubicBezTo>
                  <a:cubicBezTo>
                    <a:pt x="1040" y="864"/>
                    <a:pt x="1080" y="862"/>
                    <a:pt x="1120" y="856"/>
                  </a:cubicBezTo>
                  <a:cubicBezTo>
                    <a:pt x="1161" y="841"/>
                    <a:pt x="1202" y="823"/>
                    <a:pt x="1244" y="812"/>
                  </a:cubicBezTo>
                  <a:cubicBezTo>
                    <a:pt x="1256" y="799"/>
                    <a:pt x="1265" y="782"/>
                    <a:pt x="1280" y="772"/>
                  </a:cubicBezTo>
                  <a:cubicBezTo>
                    <a:pt x="1289" y="766"/>
                    <a:pt x="1303" y="771"/>
                    <a:pt x="1312" y="764"/>
                  </a:cubicBezTo>
                  <a:cubicBezTo>
                    <a:pt x="1319" y="759"/>
                    <a:pt x="1315" y="747"/>
                    <a:pt x="1320" y="740"/>
                  </a:cubicBezTo>
                  <a:cubicBezTo>
                    <a:pt x="1339" y="712"/>
                    <a:pt x="1341" y="717"/>
                    <a:pt x="1368" y="712"/>
                  </a:cubicBezTo>
                  <a:cubicBezTo>
                    <a:pt x="1376" y="704"/>
                    <a:pt x="1382" y="694"/>
                    <a:pt x="1392" y="688"/>
                  </a:cubicBezTo>
                  <a:cubicBezTo>
                    <a:pt x="1399" y="684"/>
                    <a:pt x="1409" y="688"/>
                    <a:pt x="1416" y="684"/>
                  </a:cubicBezTo>
                  <a:cubicBezTo>
                    <a:pt x="1496" y="637"/>
                    <a:pt x="1392" y="676"/>
                    <a:pt x="1464" y="652"/>
                  </a:cubicBezTo>
                  <a:cubicBezTo>
                    <a:pt x="1481" y="635"/>
                    <a:pt x="1500" y="621"/>
                    <a:pt x="1520" y="608"/>
                  </a:cubicBezTo>
                  <a:cubicBezTo>
                    <a:pt x="1534" y="567"/>
                    <a:pt x="1553" y="547"/>
                    <a:pt x="1596" y="536"/>
                  </a:cubicBezTo>
                  <a:cubicBezTo>
                    <a:pt x="1608" y="499"/>
                    <a:pt x="1641" y="458"/>
                    <a:pt x="1680" y="452"/>
                  </a:cubicBezTo>
                  <a:cubicBezTo>
                    <a:pt x="1686" y="414"/>
                    <a:pt x="1706" y="405"/>
                    <a:pt x="1740" y="388"/>
                  </a:cubicBezTo>
                  <a:cubicBezTo>
                    <a:pt x="1773" y="338"/>
                    <a:pt x="1829" y="285"/>
                    <a:pt x="1880" y="256"/>
                  </a:cubicBezTo>
                  <a:cubicBezTo>
                    <a:pt x="1907" y="214"/>
                    <a:pt x="1924" y="176"/>
                    <a:pt x="1972" y="160"/>
                  </a:cubicBezTo>
                  <a:cubicBezTo>
                    <a:pt x="1973" y="152"/>
                    <a:pt x="1973" y="144"/>
                    <a:pt x="1976" y="136"/>
                  </a:cubicBezTo>
                  <a:cubicBezTo>
                    <a:pt x="1978" y="130"/>
                    <a:pt x="1986" y="126"/>
                    <a:pt x="1988" y="120"/>
                  </a:cubicBezTo>
                  <a:cubicBezTo>
                    <a:pt x="1991" y="110"/>
                    <a:pt x="1988" y="98"/>
                    <a:pt x="1992" y="88"/>
                  </a:cubicBezTo>
                  <a:cubicBezTo>
                    <a:pt x="2012" y="33"/>
                    <a:pt x="2089" y="29"/>
                    <a:pt x="2136" y="16"/>
                  </a:cubicBezTo>
                  <a:cubicBezTo>
                    <a:pt x="2164" y="8"/>
                    <a:pt x="2170" y="0"/>
                    <a:pt x="2200" y="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5400" y="4254480"/>
              <a:ext cx="75960" cy="75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708200" y="3759120"/>
              <a:ext cx="1371600" cy="761760"/>
            </a:xfrm>
            <a:prstGeom prst="rect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786320" y="3956040"/>
              <a:ext cx="129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cc0000"/>
                  </a:solidFill>
                  <a:latin typeface="Times New Roman"/>
                </a:rPr>
                <a:t>Computado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90880" y="2216160"/>
              <a:ext cx="1014120" cy="1542600"/>
            </a:xfrm>
            <a:custGeom>
              <a:avLst/>
              <a:gdLst/>
              <a:ahLst/>
              <a:rect l="l" t="t" r="r" b="b"/>
              <a:pathLst>
                <a:path w="639" h="972">
                  <a:moveTo>
                    <a:pt x="639" y="72"/>
                  </a:moveTo>
                  <a:cubicBezTo>
                    <a:pt x="608" y="25"/>
                    <a:pt x="518" y="31"/>
                    <a:pt x="471" y="28"/>
                  </a:cubicBezTo>
                  <a:cubicBezTo>
                    <a:pt x="431" y="21"/>
                    <a:pt x="392" y="19"/>
                    <a:pt x="351" y="16"/>
                  </a:cubicBezTo>
                  <a:cubicBezTo>
                    <a:pt x="268" y="19"/>
                    <a:pt x="181" y="0"/>
                    <a:pt x="103" y="28"/>
                  </a:cubicBezTo>
                  <a:cubicBezTo>
                    <a:pt x="67" y="41"/>
                    <a:pt x="15" y="100"/>
                    <a:pt x="15" y="100"/>
                  </a:cubicBezTo>
                  <a:cubicBezTo>
                    <a:pt x="0" y="191"/>
                    <a:pt x="0" y="267"/>
                    <a:pt x="11" y="368"/>
                  </a:cubicBezTo>
                  <a:cubicBezTo>
                    <a:pt x="16" y="414"/>
                    <a:pt x="91" y="480"/>
                    <a:pt x="91" y="480"/>
                  </a:cubicBezTo>
                  <a:cubicBezTo>
                    <a:pt x="99" y="529"/>
                    <a:pt x="104" y="551"/>
                    <a:pt x="135" y="592"/>
                  </a:cubicBezTo>
                  <a:cubicBezTo>
                    <a:pt x="138" y="616"/>
                    <a:pt x="146" y="695"/>
                    <a:pt x="155" y="712"/>
                  </a:cubicBezTo>
                  <a:cubicBezTo>
                    <a:pt x="161" y="725"/>
                    <a:pt x="174" y="733"/>
                    <a:pt x="183" y="744"/>
                  </a:cubicBezTo>
                  <a:cubicBezTo>
                    <a:pt x="186" y="778"/>
                    <a:pt x="191" y="804"/>
                    <a:pt x="199" y="836"/>
                  </a:cubicBezTo>
                  <a:cubicBezTo>
                    <a:pt x="200" y="881"/>
                    <a:pt x="203" y="972"/>
                    <a:pt x="203" y="972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1406160" y="2838240"/>
              <a:ext cx="1114560" cy="912600"/>
              <a:chOff x="1406160" y="2838240"/>
              <a:chExt cx="1114560" cy="912600"/>
            </a:xfrm>
          </p:grpSpPr>
          <p:sp>
            <p:nvSpPr>
              <p:cNvPr id="329" name=""/>
              <p:cNvSpPr/>
              <p:nvPr/>
            </p:nvSpPr>
            <p:spPr>
              <a:xfrm>
                <a:off x="2292120" y="3676320"/>
                <a:ext cx="228600" cy="74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406160" y="2838240"/>
                <a:ext cx="8514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ffffff"/>
                    </a:solidFill>
                    <a:latin typeface="Times New Roman"/>
                  </a:rPr>
                  <a:t>Porta d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ffffff"/>
                    </a:solidFill>
                    <a:latin typeface="Times New Roman"/>
                  </a:rPr>
                  <a:t>Comun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076120" y="3358800"/>
                <a:ext cx="228600" cy="3049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70CB-D247-439E-94BC-5B81A7CEA48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ffffff"/>
                </a:solidFill>
                <a:uFillTx/>
                <a:latin typeface="Arial"/>
              </a:rPr>
              <a:t>Programando FPG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16960" y="144792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Opção 2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 - Com o cabo de programação (serial ou paralelo) e EEPR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475360" y="6230880"/>
            <a:ext cx="415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Aparato para a programação de uma FP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732720" y="2971800"/>
            <a:ext cx="1600200" cy="1447920"/>
          </a:xfrm>
          <a:prstGeom prst="rect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961320" y="341316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cc0000"/>
                </a:solidFill>
                <a:latin typeface="Times New Roman"/>
              </a:rPr>
              <a:t>FPG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6986520" y="2819520"/>
            <a:ext cx="1106280" cy="152280"/>
            <a:chOff x="6986520" y="2819520"/>
            <a:chExt cx="1106280" cy="152280"/>
          </a:xfrm>
        </p:grpSpPr>
        <p:sp>
          <p:nvSpPr>
            <p:cNvPr id="338" name=""/>
            <p:cNvSpPr/>
            <p:nvPr/>
          </p:nvSpPr>
          <p:spPr>
            <a:xfrm>
              <a:off x="6986520" y="2819520"/>
              <a:ext cx="3960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164000" y="2819520"/>
              <a:ext cx="3996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41840" y="2819520"/>
              <a:ext cx="3996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519680" y="2819520"/>
              <a:ext cx="3960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697520" y="2819520"/>
              <a:ext cx="3960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875360" y="2819520"/>
              <a:ext cx="3960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53200" y="2819520"/>
              <a:ext cx="3960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6986520" y="4419720"/>
            <a:ext cx="1106280" cy="152280"/>
            <a:chOff x="6986520" y="4419720"/>
            <a:chExt cx="1106280" cy="152280"/>
          </a:xfrm>
        </p:grpSpPr>
        <p:sp>
          <p:nvSpPr>
            <p:cNvPr id="346" name=""/>
            <p:cNvSpPr/>
            <p:nvPr/>
          </p:nvSpPr>
          <p:spPr>
            <a:xfrm>
              <a:off x="6986520" y="4419720"/>
              <a:ext cx="3960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4000" y="4419720"/>
              <a:ext cx="3996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341840" y="4419720"/>
              <a:ext cx="3996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519680" y="4419720"/>
              <a:ext cx="3960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697520" y="4419720"/>
              <a:ext cx="3960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875360" y="4419720"/>
              <a:ext cx="3960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053200" y="4419720"/>
              <a:ext cx="3960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8332920" y="3143520"/>
            <a:ext cx="152280" cy="1106280"/>
            <a:chOff x="8332920" y="3143520"/>
            <a:chExt cx="152280" cy="1106280"/>
          </a:xfrm>
        </p:grpSpPr>
        <p:sp>
          <p:nvSpPr>
            <p:cNvPr id="354" name=""/>
            <p:cNvSpPr/>
            <p:nvPr/>
          </p:nvSpPr>
          <p:spPr>
            <a:xfrm rot="16200000">
              <a:off x="8389080" y="4153680"/>
              <a:ext cx="3960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16200000">
              <a:off x="8389080" y="3976200"/>
              <a:ext cx="3996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rot="16200000">
              <a:off x="8389080" y="3798360"/>
              <a:ext cx="3996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16200000">
              <a:off x="8389080" y="3620520"/>
              <a:ext cx="3960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rot="16200000">
              <a:off x="8389080" y="3442680"/>
              <a:ext cx="3960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16200000">
              <a:off x="8389080" y="3264840"/>
              <a:ext cx="3960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16200000">
              <a:off x="8389080" y="3087000"/>
              <a:ext cx="3960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6580080" y="3143520"/>
            <a:ext cx="152280" cy="1106280"/>
            <a:chOff x="6580080" y="3143520"/>
            <a:chExt cx="152280" cy="1106280"/>
          </a:xfrm>
        </p:grpSpPr>
        <p:sp>
          <p:nvSpPr>
            <p:cNvPr id="362" name=""/>
            <p:cNvSpPr/>
            <p:nvPr/>
          </p:nvSpPr>
          <p:spPr>
            <a:xfrm rot="16200000">
              <a:off x="6636240" y="4153680"/>
              <a:ext cx="3960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16200000">
              <a:off x="6636240" y="3976200"/>
              <a:ext cx="3996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16200000">
              <a:off x="6636240" y="3798360"/>
              <a:ext cx="3996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rot="16200000">
              <a:off x="6636240" y="3620520"/>
              <a:ext cx="3960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rot="16200000">
              <a:off x="6636240" y="3442680"/>
              <a:ext cx="3960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rot="16200000">
              <a:off x="6636240" y="3264840"/>
              <a:ext cx="3960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rot="16200000">
              <a:off x="6636240" y="3087000"/>
              <a:ext cx="3960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 rot="5400000">
            <a:off x="7436160" y="41137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Vc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rot="5400000">
            <a:off x="6705360" y="40690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G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7608960" y="4572000"/>
            <a:ext cx="923040" cy="685440"/>
            <a:chOff x="7608960" y="4572000"/>
            <a:chExt cx="923040" cy="685440"/>
          </a:xfrm>
        </p:grpSpPr>
        <p:sp>
          <p:nvSpPr>
            <p:cNvPr id="372" name=""/>
            <p:cNvSpPr/>
            <p:nvPr/>
          </p:nvSpPr>
          <p:spPr>
            <a:xfrm>
              <a:off x="7608960" y="4876560"/>
              <a:ext cx="22824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608960" y="4952880"/>
              <a:ext cx="22824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7716600" y="4572000"/>
              <a:ext cx="0" cy="304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7716600" y="4952520"/>
              <a:ext cx="0" cy="3049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799400" y="4754520"/>
              <a:ext cx="73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ffffff"/>
                  </a:solidFill>
                  <a:latin typeface="Times New Roman"/>
                </a:rPr>
                <a:t>C=0,1</a:t>
              </a:r>
              <a:r>
                <a:rPr b="0" lang="pt-BR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pt-BR" sz="12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7602480" y="5257800"/>
            <a:ext cx="228600" cy="88920"/>
            <a:chOff x="7602480" y="5257800"/>
            <a:chExt cx="228600" cy="88920"/>
          </a:xfrm>
        </p:grpSpPr>
        <p:sp>
          <p:nvSpPr>
            <p:cNvPr id="378" name=""/>
            <p:cNvSpPr/>
            <p:nvPr/>
          </p:nvSpPr>
          <p:spPr>
            <a:xfrm>
              <a:off x="7602480" y="5257800"/>
              <a:ext cx="2286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640640" y="5302080"/>
              <a:ext cx="1522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678800" y="5346720"/>
              <a:ext cx="759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6891480" y="4800600"/>
            <a:ext cx="228600" cy="88920"/>
            <a:chOff x="6891480" y="4800600"/>
            <a:chExt cx="228600" cy="88920"/>
          </a:xfrm>
        </p:grpSpPr>
        <p:sp>
          <p:nvSpPr>
            <p:cNvPr id="382" name=""/>
            <p:cNvSpPr/>
            <p:nvPr/>
          </p:nvSpPr>
          <p:spPr>
            <a:xfrm>
              <a:off x="6891480" y="4800600"/>
              <a:ext cx="2286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929640" y="4844880"/>
              <a:ext cx="1522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967800" y="4889520"/>
              <a:ext cx="759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7005600" y="4572000"/>
            <a:ext cx="0" cy="2286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663600" y="301608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PRO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664680" y="3192480"/>
            <a:ext cx="45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D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664320" y="354348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CCL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663960" y="3368520"/>
            <a:ext cx="41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D/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017200" y="302112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I/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023320" y="408924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I/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8180280" y="3276720"/>
            <a:ext cx="0" cy="761760"/>
          </a:xfrm>
          <a:prstGeom prst="line">
            <a:avLst/>
          </a:prstGeom>
          <a:ln w="158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395120" y="5334120"/>
            <a:ext cx="6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G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2049120" y="1965240"/>
            <a:ext cx="1562400" cy="1562400"/>
            <a:chOff x="2049120" y="1965240"/>
            <a:chExt cx="1562400" cy="1562400"/>
          </a:xfrm>
        </p:grpSpPr>
        <p:sp>
          <p:nvSpPr>
            <p:cNvPr id="395" name=""/>
            <p:cNvSpPr/>
            <p:nvPr/>
          </p:nvSpPr>
          <p:spPr>
            <a:xfrm rot="8100000">
              <a:off x="2410920" y="2060640"/>
              <a:ext cx="838080" cy="1371600"/>
            </a:xfrm>
            <a:custGeom>
              <a:avLst/>
              <a:gdLst>
                <a:gd name="textAreaLeft" fmla="*/ 40680 w 838080"/>
                <a:gd name="textAreaRight" fmla="*/ 797400 w 838080"/>
                <a:gd name="textAreaTop" fmla="*/ 40680 h 1371600"/>
                <a:gd name="textAreaBottom" fmla="*/ 1330920 h 1371600"/>
              </a:gdLst>
              <a:ahLst/>
              <a:rect l="textAreaLeft" t="textAreaTop" r="textAreaRight" b="textAreaBottom"/>
              <a:pathLst>
                <a:path w="21600" h="35345">
                  <a:moveTo>
                    <a:pt x="3600" y="0"/>
                  </a:moveTo>
                  <a:arcTo wR="3600" hR="3600" stAng="16200000" swAng="-5400000"/>
                  <a:lnTo>
                    <a:pt x="0" y="31745"/>
                  </a:lnTo>
                  <a:arcTo wR="3600" hR="3600" stAng="10800000" swAng="-5400000"/>
                  <a:lnTo>
                    <a:pt x="18000" y="353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rot="2700000">
              <a:off x="2199240" y="2444040"/>
              <a:ext cx="1296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cc0000"/>
                  </a:solidFill>
                  <a:latin typeface="Times New Roman"/>
                </a:rPr>
                <a:t>Programmi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cc0000"/>
                  </a:solidFill>
                  <a:latin typeface="Times New Roman"/>
                </a:rPr>
                <a:t>Cabl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4713120" y="3530520"/>
            <a:ext cx="533520" cy="533520"/>
            <a:chOff x="4713120" y="3530520"/>
            <a:chExt cx="533520" cy="533520"/>
          </a:xfrm>
        </p:grpSpPr>
        <p:sp>
          <p:nvSpPr>
            <p:cNvPr id="398" name=""/>
            <p:cNvSpPr/>
            <p:nvPr/>
          </p:nvSpPr>
          <p:spPr>
            <a:xfrm>
              <a:off x="5018040" y="3606840"/>
              <a:ext cx="152280" cy="152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789440" y="3835440"/>
              <a:ext cx="152280" cy="152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94360" y="3530520"/>
              <a:ext cx="152280" cy="1526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865760" y="3759120"/>
              <a:ext cx="152280" cy="1526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941720" y="3683160"/>
              <a:ext cx="152640" cy="152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713120" y="3911760"/>
              <a:ext cx="152640" cy="152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5246640" y="3162240"/>
            <a:ext cx="1352520" cy="584280"/>
          </a:xfrm>
          <a:custGeom>
            <a:avLst/>
            <a:gdLst/>
            <a:ahLst/>
            <a:rect l="l" t="t" r="r" b="b"/>
            <a:pathLst>
              <a:path w="852" h="368">
                <a:moveTo>
                  <a:pt x="0" y="324"/>
                </a:moveTo>
                <a:cubicBezTo>
                  <a:pt x="29" y="353"/>
                  <a:pt x="85" y="360"/>
                  <a:pt x="124" y="368"/>
                </a:cubicBezTo>
                <a:cubicBezTo>
                  <a:pt x="215" y="365"/>
                  <a:pt x="290" y="360"/>
                  <a:pt x="376" y="336"/>
                </a:cubicBezTo>
                <a:cubicBezTo>
                  <a:pt x="387" y="325"/>
                  <a:pt x="416" y="297"/>
                  <a:pt x="420" y="288"/>
                </a:cubicBezTo>
                <a:cubicBezTo>
                  <a:pt x="448" y="226"/>
                  <a:pt x="420" y="220"/>
                  <a:pt x="468" y="172"/>
                </a:cubicBezTo>
                <a:cubicBezTo>
                  <a:pt x="473" y="153"/>
                  <a:pt x="484" y="146"/>
                  <a:pt x="492" y="128"/>
                </a:cubicBezTo>
                <a:cubicBezTo>
                  <a:pt x="502" y="105"/>
                  <a:pt x="506" y="73"/>
                  <a:pt x="532" y="64"/>
                </a:cubicBezTo>
                <a:cubicBezTo>
                  <a:pt x="552" y="44"/>
                  <a:pt x="574" y="50"/>
                  <a:pt x="600" y="44"/>
                </a:cubicBezTo>
                <a:cubicBezTo>
                  <a:pt x="683" y="25"/>
                  <a:pt x="766" y="0"/>
                  <a:pt x="852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164200" y="3340080"/>
            <a:ext cx="1415880" cy="554040"/>
          </a:xfrm>
          <a:custGeom>
            <a:avLst/>
            <a:gdLst/>
            <a:ahLst/>
            <a:rect l="l" t="t" r="r" b="b"/>
            <a:pathLst>
              <a:path w="892" h="349">
                <a:moveTo>
                  <a:pt x="0" y="260"/>
                </a:moveTo>
                <a:cubicBezTo>
                  <a:pt x="11" y="275"/>
                  <a:pt x="11" y="286"/>
                  <a:pt x="28" y="292"/>
                </a:cubicBezTo>
                <a:cubicBezTo>
                  <a:pt x="34" y="309"/>
                  <a:pt x="54" y="316"/>
                  <a:pt x="72" y="320"/>
                </a:cubicBezTo>
                <a:cubicBezTo>
                  <a:pt x="132" y="333"/>
                  <a:pt x="181" y="344"/>
                  <a:pt x="244" y="348"/>
                </a:cubicBezTo>
                <a:cubicBezTo>
                  <a:pt x="329" y="345"/>
                  <a:pt x="327" y="349"/>
                  <a:pt x="380" y="336"/>
                </a:cubicBezTo>
                <a:cubicBezTo>
                  <a:pt x="396" y="325"/>
                  <a:pt x="413" y="322"/>
                  <a:pt x="432" y="316"/>
                </a:cubicBezTo>
                <a:cubicBezTo>
                  <a:pt x="441" y="313"/>
                  <a:pt x="448" y="305"/>
                  <a:pt x="456" y="300"/>
                </a:cubicBezTo>
                <a:cubicBezTo>
                  <a:pt x="476" y="287"/>
                  <a:pt x="493" y="282"/>
                  <a:pt x="516" y="276"/>
                </a:cubicBezTo>
                <a:cubicBezTo>
                  <a:pt x="528" y="258"/>
                  <a:pt x="537" y="260"/>
                  <a:pt x="560" y="256"/>
                </a:cubicBezTo>
                <a:cubicBezTo>
                  <a:pt x="572" y="238"/>
                  <a:pt x="584" y="234"/>
                  <a:pt x="604" y="224"/>
                </a:cubicBezTo>
                <a:cubicBezTo>
                  <a:pt x="614" y="209"/>
                  <a:pt x="625" y="190"/>
                  <a:pt x="640" y="180"/>
                </a:cubicBezTo>
                <a:cubicBezTo>
                  <a:pt x="644" y="142"/>
                  <a:pt x="663" y="87"/>
                  <a:pt x="688" y="56"/>
                </a:cubicBezTo>
                <a:cubicBezTo>
                  <a:pt x="707" y="32"/>
                  <a:pt x="739" y="17"/>
                  <a:pt x="764" y="0"/>
                </a:cubicBezTo>
                <a:cubicBezTo>
                  <a:pt x="881" y="4"/>
                  <a:pt x="839" y="4"/>
                  <a:pt x="892" y="4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094360" y="3503520"/>
            <a:ext cx="1492200" cy="522360"/>
          </a:xfrm>
          <a:custGeom>
            <a:avLst/>
            <a:gdLst/>
            <a:ahLst/>
            <a:rect l="l" t="t" r="r" b="b"/>
            <a:pathLst>
              <a:path w="940" h="329">
                <a:moveTo>
                  <a:pt x="0" y="209"/>
                </a:moveTo>
                <a:cubicBezTo>
                  <a:pt x="46" y="221"/>
                  <a:pt x="25" y="252"/>
                  <a:pt x="56" y="273"/>
                </a:cubicBezTo>
                <a:cubicBezTo>
                  <a:pt x="65" y="279"/>
                  <a:pt x="77" y="278"/>
                  <a:pt x="88" y="281"/>
                </a:cubicBezTo>
                <a:cubicBezTo>
                  <a:pt x="125" y="318"/>
                  <a:pt x="217" y="319"/>
                  <a:pt x="268" y="325"/>
                </a:cubicBezTo>
                <a:cubicBezTo>
                  <a:pt x="417" y="323"/>
                  <a:pt x="472" y="329"/>
                  <a:pt x="584" y="313"/>
                </a:cubicBezTo>
                <a:cubicBezTo>
                  <a:pt x="598" y="307"/>
                  <a:pt x="616" y="307"/>
                  <a:pt x="628" y="297"/>
                </a:cubicBezTo>
                <a:cubicBezTo>
                  <a:pt x="644" y="284"/>
                  <a:pt x="672" y="253"/>
                  <a:pt x="672" y="253"/>
                </a:cubicBezTo>
                <a:cubicBezTo>
                  <a:pt x="673" y="245"/>
                  <a:pt x="672" y="236"/>
                  <a:pt x="676" y="229"/>
                </a:cubicBezTo>
                <a:cubicBezTo>
                  <a:pt x="678" y="225"/>
                  <a:pt x="686" y="225"/>
                  <a:pt x="688" y="221"/>
                </a:cubicBezTo>
                <a:cubicBezTo>
                  <a:pt x="713" y="172"/>
                  <a:pt x="673" y="216"/>
                  <a:pt x="704" y="185"/>
                </a:cubicBezTo>
                <a:cubicBezTo>
                  <a:pt x="709" y="148"/>
                  <a:pt x="724" y="116"/>
                  <a:pt x="736" y="81"/>
                </a:cubicBezTo>
                <a:cubicBezTo>
                  <a:pt x="747" y="48"/>
                  <a:pt x="734" y="56"/>
                  <a:pt x="756" y="49"/>
                </a:cubicBezTo>
                <a:cubicBezTo>
                  <a:pt x="805" y="0"/>
                  <a:pt x="787" y="21"/>
                  <a:pt x="900" y="17"/>
                </a:cubicBezTo>
                <a:cubicBezTo>
                  <a:pt x="929" y="7"/>
                  <a:pt x="916" y="9"/>
                  <a:pt x="940" y="9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018040" y="3656160"/>
            <a:ext cx="1581120" cy="500040"/>
          </a:xfrm>
          <a:custGeom>
            <a:avLst/>
            <a:gdLst/>
            <a:ahLst/>
            <a:rect l="l" t="t" r="r" b="b"/>
            <a:pathLst>
              <a:path w="996" h="315">
                <a:moveTo>
                  <a:pt x="0" y="157"/>
                </a:moveTo>
                <a:cubicBezTo>
                  <a:pt x="13" y="161"/>
                  <a:pt x="30" y="159"/>
                  <a:pt x="40" y="169"/>
                </a:cubicBezTo>
                <a:cubicBezTo>
                  <a:pt x="43" y="172"/>
                  <a:pt x="41" y="178"/>
                  <a:pt x="44" y="181"/>
                </a:cubicBezTo>
                <a:cubicBezTo>
                  <a:pt x="47" y="185"/>
                  <a:pt x="52" y="186"/>
                  <a:pt x="56" y="189"/>
                </a:cubicBezTo>
                <a:cubicBezTo>
                  <a:pt x="64" y="213"/>
                  <a:pt x="78" y="225"/>
                  <a:pt x="96" y="245"/>
                </a:cubicBezTo>
                <a:cubicBezTo>
                  <a:pt x="103" y="267"/>
                  <a:pt x="131" y="262"/>
                  <a:pt x="152" y="265"/>
                </a:cubicBezTo>
                <a:cubicBezTo>
                  <a:pt x="196" y="287"/>
                  <a:pt x="172" y="280"/>
                  <a:pt x="224" y="285"/>
                </a:cubicBezTo>
                <a:cubicBezTo>
                  <a:pt x="315" y="315"/>
                  <a:pt x="393" y="295"/>
                  <a:pt x="504" y="297"/>
                </a:cubicBezTo>
                <a:cubicBezTo>
                  <a:pt x="572" y="305"/>
                  <a:pt x="632" y="309"/>
                  <a:pt x="700" y="305"/>
                </a:cubicBezTo>
                <a:cubicBezTo>
                  <a:pt x="721" y="298"/>
                  <a:pt x="736" y="286"/>
                  <a:pt x="756" y="281"/>
                </a:cubicBezTo>
                <a:cubicBezTo>
                  <a:pt x="773" y="268"/>
                  <a:pt x="787" y="252"/>
                  <a:pt x="804" y="241"/>
                </a:cubicBezTo>
                <a:cubicBezTo>
                  <a:pt x="809" y="233"/>
                  <a:pt x="815" y="225"/>
                  <a:pt x="820" y="217"/>
                </a:cubicBezTo>
                <a:cubicBezTo>
                  <a:pt x="823" y="213"/>
                  <a:pt x="828" y="205"/>
                  <a:pt x="828" y="205"/>
                </a:cubicBezTo>
                <a:cubicBezTo>
                  <a:pt x="837" y="169"/>
                  <a:pt x="826" y="51"/>
                  <a:pt x="868" y="37"/>
                </a:cubicBezTo>
                <a:cubicBezTo>
                  <a:pt x="893" y="0"/>
                  <a:pt x="966" y="17"/>
                  <a:pt x="996" y="17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675320" y="5257800"/>
            <a:ext cx="1066680" cy="533520"/>
          </a:xfrm>
          <a:prstGeom prst="rect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624560" y="5353200"/>
            <a:ext cx="117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cc0000"/>
                </a:solidFill>
                <a:latin typeface="Times New Roman"/>
              </a:rPr>
              <a:t>Fonte D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827600" y="5029200"/>
            <a:ext cx="152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437080" y="5029200"/>
            <a:ext cx="1526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33920" y="500688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G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789440" y="4057560"/>
            <a:ext cx="139680" cy="984240"/>
          </a:xfrm>
          <a:custGeom>
            <a:avLst/>
            <a:gdLst/>
            <a:ahLst/>
            <a:rect l="l" t="t" r="r" b="b"/>
            <a:pathLst>
              <a:path w="88" h="620">
                <a:moveTo>
                  <a:pt x="40" y="0"/>
                </a:moveTo>
                <a:cubicBezTo>
                  <a:pt x="60" y="7"/>
                  <a:pt x="68" y="26"/>
                  <a:pt x="76" y="44"/>
                </a:cubicBezTo>
                <a:cubicBezTo>
                  <a:pt x="79" y="52"/>
                  <a:pt x="81" y="60"/>
                  <a:pt x="84" y="68"/>
                </a:cubicBezTo>
                <a:cubicBezTo>
                  <a:pt x="85" y="72"/>
                  <a:pt x="88" y="80"/>
                  <a:pt x="88" y="80"/>
                </a:cubicBezTo>
                <a:cubicBezTo>
                  <a:pt x="86" y="124"/>
                  <a:pt x="85" y="206"/>
                  <a:pt x="40" y="236"/>
                </a:cubicBezTo>
                <a:cubicBezTo>
                  <a:pt x="20" y="266"/>
                  <a:pt x="30" y="252"/>
                  <a:pt x="12" y="276"/>
                </a:cubicBezTo>
                <a:cubicBezTo>
                  <a:pt x="4" y="308"/>
                  <a:pt x="3" y="320"/>
                  <a:pt x="0" y="360"/>
                </a:cubicBezTo>
                <a:cubicBezTo>
                  <a:pt x="6" y="411"/>
                  <a:pt x="11" y="491"/>
                  <a:pt x="48" y="528"/>
                </a:cubicBezTo>
                <a:cubicBezTo>
                  <a:pt x="52" y="558"/>
                  <a:pt x="60" y="590"/>
                  <a:pt x="60" y="62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935600" y="3981600"/>
            <a:ext cx="577800" cy="1066680"/>
          </a:xfrm>
          <a:custGeom>
            <a:avLst/>
            <a:gdLst/>
            <a:ahLst/>
            <a:rect l="l" t="t" r="r" b="b"/>
            <a:pathLst>
              <a:path w="364" h="672">
                <a:moveTo>
                  <a:pt x="0" y="0"/>
                </a:moveTo>
                <a:cubicBezTo>
                  <a:pt x="11" y="23"/>
                  <a:pt x="21" y="46"/>
                  <a:pt x="32" y="68"/>
                </a:cubicBezTo>
                <a:cubicBezTo>
                  <a:pt x="34" y="72"/>
                  <a:pt x="32" y="78"/>
                  <a:pt x="36" y="80"/>
                </a:cubicBezTo>
                <a:cubicBezTo>
                  <a:pt x="44" y="85"/>
                  <a:pt x="55" y="85"/>
                  <a:pt x="64" y="88"/>
                </a:cubicBezTo>
                <a:cubicBezTo>
                  <a:pt x="70" y="107"/>
                  <a:pt x="79" y="138"/>
                  <a:pt x="96" y="144"/>
                </a:cubicBezTo>
                <a:cubicBezTo>
                  <a:pt x="103" y="164"/>
                  <a:pt x="106" y="180"/>
                  <a:pt x="124" y="192"/>
                </a:cubicBezTo>
                <a:cubicBezTo>
                  <a:pt x="133" y="244"/>
                  <a:pt x="122" y="253"/>
                  <a:pt x="176" y="260"/>
                </a:cubicBezTo>
                <a:cubicBezTo>
                  <a:pt x="196" y="271"/>
                  <a:pt x="213" y="283"/>
                  <a:pt x="232" y="296"/>
                </a:cubicBezTo>
                <a:cubicBezTo>
                  <a:pt x="243" y="328"/>
                  <a:pt x="227" y="291"/>
                  <a:pt x="248" y="312"/>
                </a:cubicBezTo>
                <a:cubicBezTo>
                  <a:pt x="255" y="319"/>
                  <a:pt x="264" y="336"/>
                  <a:pt x="264" y="336"/>
                </a:cubicBezTo>
                <a:cubicBezTo>
                  <a:pt x="268" y="352"/>
                  <a:pt x="271" y="362"/>
                  <a:pt x="280" y="376"/>
                </a:cubicBezTo>
                <a:cubicBezTo>
                  <a:pt x="286" y="401"/>
                  <a:pt x="288" y="425"/>
                  <a:pt x="300" y="448"/>
                </a:cubicBezTo>
                <a:cubicBezTo>
                  <a:pt x="304" y="467"/>
                  <a:pt x="301" y="478"/>
                  <a:pt x="320" y="484"/>
                </a:cubicBezTo>
                <a:cubicBezTo>
                  <a:pt x="351" y="530"/>
                  <a:pt x="343" y="581"/>
                  <a:pt x="360" y="632"/>
                </a:cubicBezTo>
                <a:cubicBezTo>
                  <a:pt x="364" y="669"/>
                  <a:pt x="364" y="656"/>
                  <a:pt x="364" y="672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545080" y="4657680"/>
            <a:ext cx="1454040" cy="397080"/>
          </a:xfrm>
          <a:custGeom>
            <a:avLst/>
            <a:gdLst/>
            <a:ahLst/>
            <a:rect l="l" t="t" r="r" b="b"/>
            <a:pathLst>
              <a:path w="1172" h="250">
                <a:moveTo>
                  <a:pt x="1172" y="14"/>
                </a:moveTo>
                <a:cubicBezTo>
                  <a:pt x="838" y="3"/>
                  <a:pt x="506" y="0"/>
                  <a:pt x="172" y="10"/>
                </a:cubicBezTo>
                <a:cubicBezTo>
                  <a:pt x="145" y="19"/>
                  <a:pt x="118" y="25"/>
                  <a:pt x="92" y="34"/>
                </a:cubicBezTo>
                <a:cubicBezTo>
                  <a:pt x="83" y="48"/>
                  <a:pt x="82" y="56"/>
                  <a:pt x="68" y="66"/>
                </a:cubicBezTo>
                <a:cubicBezTo>
                  <a:pt x="62" y="85"/>
                  <a:pt x="49" y="104"/>
                  <a:pt x="40" y="122"/>
                </a:cubicBezTo>
                <a:cubicBezTo>
                  <a:pt x="28" y="146"/>
                  <a:pt x="26" y="177"/>
                  <a:pt x="16" y="202"/>
                </a:cubicBezTo>
                <a:cubicBezTo>
                  <a:pt x="10" y="217"/>
                  <a:pt x="0" y="233"/>
                  <a:pt x="0" y="25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967440" y="464184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218120" y="4724280"/>
            <a:ext cx="3492360" cy="1441440"/>
          </a:xfrm>
          <a:custGeom>
            <a:avLst/>
            <a:gdLst/>
            <a:ahLst/>
            <a:rect l="l" t="t" r="r" b="b"/>
            <a:pathLst>
              <a:path w="2200" h="908">
                <a:moveTo>
                  <a:pt x="428" y="188"/>
                </a:moveTo>
                <a:cubicBezTo>
                  <a:pt x="385" y="152"/>
                  <a:pt x="319" y="138"/>
                  <a:pt x="264" y="132"/>
                </a:cubicBezTo>
                <a:cubicBezTo>
                  <a:pt x="213" y="119"/>
                  <a:pt x="159" y="127"/>
                  <a:pt x="108" y="136"/>
                </a:cubicBezTo>
                <a:cubicBezTo>
                  <a:pt x="33" y="201"/>
                  <a:pt x="126" y="129"/>
                  <a:pt x="48" y="164"/>
                </a:cubicBezTo>
                <a:cubicBezTo>
                  <a:pt x="44" y="166"/>
                  <a:pt x="46" y="172"/>
                  <a:pt x="44" y="176"/>
                </a:cubicBezTo>
                <a:cubicBezTo>
                  <a:pt x="35" y="199"/>
                  <a:pt x="16" y="244"/>
                  <a:pt x="16" y="244"/>
                </a:cubicBezTo>
                <a:cubicBezTo>
                  <a:pt x="12" y="282"/>
                  <a:pt x="4" y="318"/>
                  <a:pt x="0" y="356"/>
                </a:cubicBezTo>
                <a:cubicBezTo>
                  <a:pt x="4" y="398"/>
                  <a:pt x="1" y="452"/>
                  <a:pt x="28" y="488"/>
                </a:cubicBezTo>
                <a:cubicBezTo>
                  <a:pt x="39" y="554"/>
                  <a:pt x="22" y="462"/>
                  <a:pt x="44" y="544"/>
                </a:cubicBezTo>
                <a:cubicBezTo>
                  <a:pt x="55" y="586"/>
                  <a:pt x="54" y="617"/>
                  <a:pt x="100" y="632"/>
                </a:cubicBezTo>
                <a:cubicBezTo>
                  <a:pt x="107" y="674"/>
                  <a:pt x="95" y="643"/>
                  <a:pt x="128" y="664"/>
                </a:cubicBezTo>
                <a:cubicBezTo>
                  <a:pt x="142" y="673"/>
                  <a:pt x="165" y="710"/>
                  <a:pt x="176" y="720"/>
                </a:cubicBezTo>
                <a:cubicBezTo>
                  <a:pt x="188" y="730"/>
                  <a:pt x="204" y="734"/>
                  <a:pt x="216" y="744"/>
                </a:cubicBezTo>
                <a:cubicBezTo>
                  <a:pt x="227" y="753"/>
                  <a:pt x="232" y="768"/>
                  <a:pt x="244" y="776"/>
                </a:cubicBezTo>
                <a:cubicBezTo>
                  <a:pt x="261" y="787"/>
                  <a:pt x="281" y="792"/>
                  <a:pt x="300" y="800"/>
                </a:cubicBezTo>
                <a:cubicBezTo>
                  <a:pt x="314" y="806"/>
                  <a:pt x="326" y="819"/>
                  <a:pt x="340" y="824"/>
                </a:cubicBezTo>
                <a:cubicBezTo>
                  <a:pt x="392" y="844"/>
                  <a:pt x="444" y="854"/>
                  <a:pt x="500" y="860"/>
                </a:cubicBezTo>
                <a:cubicBezTo>
                  <a:pt x="612" y="908"/>
                  <a:pt x="986" y="868"/>
                  <a:pt x="1000" y="868"/>
                </a:cubicBezTo>
                <a:cubicBezTo>
                  <a:pt x="1040" y="864"/>
                  <a:pt x="1080" y="862"/>
                  <a:pt x="1120" y="856"/>
                </a:cubicBezTo>
                <a:cubicBezTo>
                  <a:pt x="1161" y="841"/>
                  <a:pt x="1202" y="823"/>
                  <a:pt x="1244" y="812"/>
                </a:cubicBezTo>
                <a:cubicBezTo>
                  <a:pt x="1256" y="799"/>
                  <a:pt x="1265" y="782"/>
                  <a:pt x="1280" y="772"/>
                </a:cubicBezTo>
                <a:cubicBezTo>
                  <a:pt x="1289" y="766"/>
                  <a:pt x="1303" y="771"/>
                  <a:pt x="1312" y="764"/>
                </a:cubicBezTo>
                <a:cubicBezTo>
                  <a:pt x="1319" y="759"/>
                  <a:pt x="1315" y="747"/>
                  <a:pt x="1320" y="740"/>
                </a:cubicBezTo>
                <a:cubicBezTo>
                  <a:pt x="1339" y="712"/>
                  <a:pt x="1341" y="717"/>
                  <a:pt x="1368" y="712"/>
                </a:cubicBezTo>
                <a:cubicBezTo>
                  <a:pt x="1376" y="704"/>
                  <a:pt x="1382" y="694"/>
                  <a:pt x="1392" y="688"/>
                </a:cubicBezTo>
                <a:cubicBezTo>
                  <a:pt x="1399" y="684"/>
                  <a:pt x="1409" y="688"/>
                  <a:pt x="1416" y="684"/>
                </a:cubicBezTo>
                <a:cubicBezTo>
                  <a:pt x="1496" y="637"/>
                  <a:pt x="1392" y="676"/>
                  <a:pt x="1464" y="652"/>
                </a:cubicBezTo>
                <a:cubicBezTo>
                  <a:pt x="1481" y="635"/>
                  <a:pt x="1500" y="621"/>
                  <a:pt x="1520" y="608"/>
                </a:cubicBezTo>
                <a:cubicBezTo>
                  <a:pt x="1534" y="567"/>
                  <a:pt x="1553" y="547"/>
                  <a:pt x="1596" y="536"/>
                </a:cubicBezTo>
                <a:cubicBezTo>
                  <a:pt x="1608" y="499"/>
                  <a:pt x="1641" y="458"/>
                  <a:pt x="1680" y="452"/>
                </a:cubicBezTo>
                <a:cubicBezTo>
                  <a:pt x="1686" y="414"/>
                  <a:pt x="1706" y="405"/>
                  <a:pt x="1740" y="388"/>
                </a:cubicBezTo>
                <a:cubicBezTo>
                  <a:pt x="1773" y="338"/>
                  <a:pt x="1829" y="285"/>
                  <a:pt x="1880" y="256"/>
                </a:cubicBezTo>
                <a:cubicBezTo>
                  <a:pt x="1907" y="214"/>
                  <a:pt x="1924" y="176"/>
                  <a:pt x="1972" y="160"/>
                </a:cubicBezTo>
                <a:cubicBezTo>
                  <a:pt x="1973" y="152"/>
                  <a:pt x="1973" y="144"/>
                  <a:pt x="1976" y="136"/>
                </a:cubicBezTo>
                <a:cubicBezTo>
                  <a:pt x="1978" y="130"/>
                  <a:pt x="1986" y="126"/>
                  <a:pt x="1988" y="120"/>
                </a:cubicBezTo>
                <a:cubicBezTo>
                  <a:pt x="1991" y="110"/>
                  <a:pt x="1988" y="98"/>
                  <a:pt x="1992" y="88"/>
                </a:cubicBezTo>
                <a:cubicBezTo>
                  <a:pt x="2012" y="33"/>
                  <a:pt x="2089" y="29"/>
                  <a:pt x="2136" y="16"/>
                </a:cubicBezTo>
                <a:cubicBezTo>
                  <a:pt x="2164" y="8"/>
                  <a:pt x="2170" y="0"/>
                  <a:pt x="2200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678800" y="468648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963720" y="3686040"/>
            <a:ext cx="1371600" cy="762120"/>
          </a:xfrm>
          <a:prstGeom prst="rect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014480" y="38829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cc0000"/>
                </a:solidFill>
                <a:latin typeface="Times New Roman"/>
              </a:rPr>
              <a:t>Computad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346040" y="2143080"/>
            <a:ext cx="1014480" cy="1542960"/>
          </a:xfrm>
          <a:custGeom>
            <a:avLst/>
            <a:gdLst/>
            <a:ahLst/>
            <a:rect l="l" t="t" r="r" b="b"/>
            <a:pathLst>
              <a:path w="639" h="972">
                <a:moveTo>
                  <a:pt x="639" y="72"/>
                </a:moveTo>
                <a:cubicBezTo>
                  <a:pt x="608" y="25"/>
                  <a:pt x="518" y="31"/>
                  <a:pt x="471" y="28"/>
                </a:cubicBezTo>
                <a:cubicBezTo>
                  <a:pt x="431" y="21"/>
                  <a:pt x="392" y="19"/>
                  <a:pt x="351" y="16"/>
                </a:cubicBezTo>
                <a:cubicBezTo>
                  <a:pt x="268" y="19"/>
                  <a:pt x="181" y="0"/>
                  <a:pt x="103" y="28"/>
                </a:cubicBezTo>
                <a:cubicBezTo>
                  <a:pt x="67" y="41"/>
                  <a:pt x="15" y="100"/>
                  <a:pt x="15" y="100"/>
                </a:cubicBezTo>
                <a:cubicBezTo>
                  <a:pt x="0" y="191"/>
                  <a:pt x="0" y="267"/>
                  <a:pt x="11" y="368"/>
                </a:cubicBezTo>
                <a:cubicBezTo>
                  <a:pt x="16" y="414"/>
                  <a:pt x="91" y="480"/>
                  <a:pt x="91" y="480"/>
                </a:cubicBezTo>
                <a:cubicBezTo>
                  <a:pt x="99" y="529"/>
                  <a:pt x="104" y="551"/>
                  <a:pt x="135" y="592"/>
                </a:cubicBezTo>
                <a:cubicBezTo>
                  <a:pt x="138" y="616"/>
                  <a:pt x="146" y="695"/>
                  <a:pt x="155" y="712"/>
                </a:cubicBezTo>
                <a:cubicBezTo>
                  <a:pt x="161" y="725"/>
                  <a:pt x="174" y="733"/>
                  <a:pt x="183" y="744"/>
                </a:cubicBezTo>
                <a:cubicBezTo>
                  <a:pt x="186" y="778"/>
                  <a:pt x="191" y="804"/>
                  <a:pt x="199" y="836"/>
                </a:cubicBezTo>
                <a:cubicBezTo>
                  <a:pt x="200" y="881"/>
                  <a:pt x="203" y="972"/>
                  <a:pt x="203" y="972"/>
                </a:cubicBezTo>
              </a:path>
            </a:pathLst>
          </a:custGeom>
          <a:noFill/>
          <a:ln w="31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661680" y="2765520"/>
            <a:ext cx="1114560" cy="912600"/>
            <a:chOff x="661680" y="2765520"/>
            <a:chExt cx="1114560" cy="912600"/>
          </a:xfrm>
        </p:grpSpPr>
        <p:sp>
          <p:nvSpPr>
            <p:cNvPr id="423" name=""/>
            <p:cNvSpPr/>
            <p:nvPr/>
          </p:nvSpPr>
          <p:spPr>
            <a:xfrm>
              <a:off x="1547640" y="3603600"/>
              <a:ext cx="228600" cy="7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61680" y="2765520"/>
              <a:ext cx="851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ffff"/>
                  </a:solidFill>
                  <a:latin typeface="Times New Roman"/>
                </a:rPr>
                <a:t>Porta d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ffff"/>
                  </a:solidFill>
                  <a:latin typeface="Times New Roman"/>
                </a:rPr>
                <a:t>Comun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331640" y="3286080"/>
              <a:ext cx="228600" cy="3049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6" name=""/>
          <p:cNvSpPr/>
          <p:nvPr/>
        </p:nvSpPr>
        <p:spPr>
          <a:xfrm rot="19036200">
            <a:off x="4064040" y="3112560"/>
            <a:ext cx="1228680" cy="676440"/>
          </a:xfrm>
          <a:prstGeom prst="rect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rot="19037400">
            <a:off x="4137120" y="3257280"/>
            <a:ext cx="108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cc0000"/>
                </a:solidFill>
                <a:latin typeface="Times New Roman"/>
              </a:rPr>
              <a:t>EEPR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483000" y="3068640"/>
            <a:ext cx="10969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411360" y="3141720"/>
            <a:ext cx="10875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325680" y="3213000"/>
            <a:ext cx="10969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276720" y="3284640"/>
            <a:ext cx="10602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203640" y="3357720"/>
            <a:ext cx="10605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68360" y="1916280"/>
            <a:ext cx="3240000" cy="3168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379520" y="4775040"/>
            <a:ext cx="143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Parte removív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179B-43BC-4125-BFFB-F4B1952C3BC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ffffff"/>
                </a:solidFill>
                <a:uFillTx/>
                <a:latin typeface="Arial"/>
              </a:rPr>
              <a:t>Referências Bibliográfic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Fundamentals of Digital Logic with VHDL Design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pt-BR" sz="2000" spc="-1" strike="noStrike">
                <a:solidFill>
                  <a:srgbClr val="ffffff"/>
                </a:solidFill>
                <a:latin typeface="Arial"/>
              </a:rPr>
              <a:t>Stephen Brown and Zvonko Vranesic,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McGraw-Hill, 20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The Designer’s Guide to VHDL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, Peter Ashenden, 2</a:t>
            </a:r>
            <a:r>
              <a:rPr b="0" lang="pt-BR" sz="2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Edition, Morgan Kaufmann, 200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VHDL Coding Styles and Methodologies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Ben Cohen, 2</a:t>
            </a:r>
            <a:r>
              <a:rPr b="0" lang="pt-BR" sz="2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Edition, Kluwer Academic Publishers, 1999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igital Systems Design with VHDL and Synthesis: An Integrated Approach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K. C. Chang,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pt-BR" sz="2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Edition,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ley-IEEE Computer Society Press, 1999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86d1ec"/>
                </a:solidFill>
                <a:uFillTx/>
                <a:latin typeface="Arial"/>
                <a:hlinkClick r:id="rId6"/>
              </a:rPr>
              <a:t>www.altera.com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(datasheets, application not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86d1ec"/>
                </a:solidFill>
                <a:uFillTx/>
                <a:latin typeface="Arial"/>
                <a:hlinkClick r:id="rId8"/>
              </a:rPr>
              <a:t>www.xilinx.com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(datasheets, application not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3D22-ED51-4CDB-AC82-C4301656705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ffffff"/>
                </a:solidFill>
                <a:uFillTx/>
                <a:latin typeface="Arial"/>
              </a:rPr>
              <a:t>Estrutura do Curs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99920" y="1828440"/>
            <a:ext cx="8019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SzPct val="11856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1ª parte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Introdução á FPGA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Tecnologia de implementação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SzPct val="11856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2ª parte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Etapas de projeto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Projeto/Simulação/Implementação/Programação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SzPct val="11856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3ª parte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Demonstração prática (Quartus II e Foundation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38E4-B65F-454C-B1B8-A8A744BC08F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90360"/>
            <a:ext cx="8229600" cy="18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ª PARTE</a:t>
            </a:r>
            <a:br>
              <a:rPr sz="4800"/>
            </a:b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- Luciano Manhães 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BDDF-50BB-4F45-870F-7740AA22EB5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ffffff"/>
                </a:solidFill>
                <a:uFillTx/>
                <a:latin typeface="Arial"/>
              </a:rPr>
              <a:t>Introdução á FPG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1641600"/>
            <a:ext cx="8686800" cy="48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Arial"/>
              </a:rPr>
              <a:t>FPGA = </a:t>
            </a:r>
            <a:r>
              <a:rPr b="0" i="1" lang="pt-BR" sz="2000" spc="-1" strike="noStrike">
                <a:solidFill>
                  <a:srgbClr val="ffff00"/>
                </a:solidFill>
                <a:latin typeface="Arial"/>
              </a:rPr>
              <a:t>Field Programmable Gate Arra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00"/>
                </a:solidFill>
                <a:latin typeface="Arial"/>
              </a:rPr>
              <a:t>O que é: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dispositivo semicondutor lógico programável utilizado em projetos de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     circuitos digitais de grande complexidad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00"/>
                </a:solidFill>
                <a:latin typeface="Arial"/>
              </a:rPr>
              <a:t>Características: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reprogramável, praticamente, por um número indefinido de vez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rogramabilidade baseada em memória SRA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utiliza memória externa (EEPROM) para armazenamento do projeto (sua     programação é não-voláti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utiliza linguagens totalmente portáveis entre ferramentas (VHDL, Verilog, ..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lta densidade de lógica programá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grande quantidade de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latches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(ideal para circuitos síncrono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blocos dedicados (DSP, memória, processadores, PLL, SERDES, ..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ceita vários padrões digitais de comunicação (LVTTL, LVCMOS, LVDS, ..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rogramável através de IP Cores (ex: interfaces de comunicaçã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transição FPGA </a:t>
            </a:r>
            <a:r>
              <a:rPr b="0" lang="pt-BR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ASIC pelo fabricante (ex: processo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Hardcopy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da Alter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E0D0-7FF5-4371-87D9-09156C0115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ffffff"/>
                </a:solidFill>
                <a:uFillTx/>
                <a:latin typeface="Arial"/>
              </a:rPr>
              <a:t>Introdução á FPG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" y="1641600"/>
            <a:ext cx="8686800" cy="32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00"/>
                </a:solidFill>
                <a:latin typeface="Arial"/>
              </a:rPr>
              <a:t>Exemplo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ltera: família Stratix, EP1S80: 79000 LEs, 7,4 Mbits, 1203 pinos I/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Xilinx: família Virtex 4, LX200: 200000 CLBs, 6,0 Mbits, 960 pinos I/O</a:t>
            </a:r>
            <a:r>
              <a:rPr b="1" lang="pt-BR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00"/>
                </a:solidFill>
                <a:latin typeface="Arial"/>
              </a:rPr>
              <a:t>Aplicaçõ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Instrumentação para Física Nuclear (aquisição de dados, controle, processamento digital de sinai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istemas de trigger em Física de Altas Energi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Controle industr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Comunica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Implementação de protocolos de comunica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3FC8-8422-4AE8-8596-AD01A7AEFD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cnologia de implementação</a:t>
            </a: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estrutura gera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033280"/>
            <a:ext cx="403848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Array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bidimensional de blocos lógic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Canais de roteamento horizontal e vertic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Blocos lógicos – contém a lógica desejad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Blocos de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I/O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– comunicação entre lógica interna e extern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Chaves de interconexão – para conexão entre blocos lógicos e entre blocos lógicos e pinos de 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I/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6"/>
          <a:stretch/>
        </p:blipFill>
        <p:spPr>
          <a:xfrm>
            <a:off x="4648320" y="1890720"/>
            <a:ext cx="4038480" cy="39495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429160" y="5927760"/>
            <a:ext cx="253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Estrutura geral de uma FPG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0627-5AFD-42AD-958A-4E69A797A65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cnologia de implementação</a:t>
            </a:r>
            <a:br>
              <a:rPr sz="4000"/>
            </a:b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(blocos lógico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384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Lookup Table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(LUT) – contém células de memória e multiplexado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LUTs são utilizadas para implementar uma função lógic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Número de células de memória é igual a 2</a:t>
            </a:r>
            <a:r>
              <a:rPr b="0" lang="pt-BR" sz="1800" spc="-1" strike="noStrike" baseline="30000">
                <a:solidFill>
                  <a:srgbClr val="ffffff"/>
                </a:solidFill>
                <a:latin typeface="Arial"/>
              </a:rPr>
              <a:t>(número de entradas)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Implementação transparente ao usuári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Células de memória volátei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6"/>
          <a:stretch/>
        </p:blipFill>
        <p:spPr>
          <a:xfrm>
            <a:off x="4648320" y="1646280"/>
            <a:ext cx="4038480" cy="4437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202720" y="6168960"/>
            <a:ext cx="299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Uma </a:t>
            </a: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lookup table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 de duas entrad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EA4A-1841-49B0-A172-AA6B930AEF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cnologia de implementação</a:t>
            </a:r>
            <a:br>
              <a:rPr sz="4000"/>
            </a:b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(blocos lógico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2151000" cy="21891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900000" y="3213000"/>
            <a:ext cx="7382160" cy="33181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 flipH="1" flipV="1">
            <a:off x="684360" y="3212640"/>
            <a:ext cx="1295280" cy="25923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2195280" y="1125000"/>
            <a:ext cx="863640" cy="35989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73040" y="6524640"/>
            <a:ext cx="642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Exemplo de um bloco lógico formado por uma LUT de 3 entradas e um </a:t>
            </a: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flip-flo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A149-B00E-428C-8089-B4D26BDC446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Tecnologia de implementação</a:t>
            </a: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(exemplo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LUT de 2 entrad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4 fios de interconexã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élulas em azul ativad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f = f</a:t>
            </a:r>
            <a:r>
              <a:rPr b="0" i="1" lang="pt-BR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 + f</a:t>
            </a:r>
            <a:r>
              <a:rPr b="0" i="1" lang="pt-B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 = x</a:t>
            </a:r>
            <a:r>
              <a:rPr b="0" i="1" lang="pt-BR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i="1" lang="pt-B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 + x</a:t>
            </a:r>
            <a:r>
              <a:rPr b="0" i="1" lang="pt-B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i="1" lang="pt-BR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Fios de interconexão tb. são configurados por células de memór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4643280" y="1700280"/>
            <a:ext cx="4194360" cy="35114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7"/>
          <a:stretch/>
        </p:blipFill>
        <p:spPr>
          <a:xfrm>
            <a:off x="730080" y="4583160"/>
            <a:ext cx="3240360" cy="19414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218040" y="2733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_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35800" y="6524640"/>
            <a:ext cx="424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Esquema de configuração dos fios de interconexã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590000" y="5248440"/>
            <a:ext cx="430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Exemplo de implementação a função combinacion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AA66-CAF4-45CE-8E41-CCC3E3AFF5D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8T16:39:02Z</dcterms:created>
  <dc:creator>CBPF</dc:creator>
  <dc:description/>
  <dc:language>en-US</dc:language>
  <cp:lastModifiedBy>Marcia Losada Maia</cp:lastModifiedBy>
  <cp:lastPrinted>2002-03-19T18:12:47Z</cp:lastPrinted>
  <dcterms:modified xsi:type="dcterms:W3CDTF">2004-11-29T13:47:52Z</dcterms:modified>
  <cp:revision>661</cp:revision>
  <dc:subject/>
  <dc:title>Minicurso em lógica programável no Foundation</dc:title>
</cp:coreProperties>
</file>